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50680" y="838080"/>
            <a:ext cx="1130292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50680" y="2755440"/>
            <a:ext cx="1130292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50680" y="6072120"/>
            <a:ext cx="1130292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50680" y="838080"/>
            <a:ext cx="1130292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850680" y="2755440"/>
            <a:ext cx="551556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6642360" y="2755440"/>
            <a:ext cx="551556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50680" y="838080"/>
            <a:ext cx="1130292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850680" y="838080"/>
            <a:ext cx="1130292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0000"/>
              </a:lnSpc>
              <a:spcBef>
                <a:spcPts val="33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50680" y="838080"/>
            <a:ext cx="1130292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850680" y="2755440"/>
            <a:ext cx="551556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6642360" y="2755440"/>
            <a:ext cx="551556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850680" y="6072120"/>
            <a:ext cx="551556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50680" y="838080"/>
            <a:ext cx="1130292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850680" y="2755440"/>
            <a:ext cx="551556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642360" y="2755440"/>
            <a:ext cx="551556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642360" y="6072120"/>
            <a:ext cx="551556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850680" y="838080"/>
            <a:ext cx="1130292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850680" y="2755440"/>
            <a:ext cx="551556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6642360" y="2755440"/>
            <a:ext cx="551556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850680" y="6072120"/>
            <a:ext cx="1130292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850680" y="838080"/>
            <a:ext cx="1130292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850680" y="2755440"/>
            <a:ext cx="1130292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850680" y="6072120"/>
            <a:ext cx="1130292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50680" y="838080"/>
            <a:ext cx="1130292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850680" y="2755440"/>
            <a:ext cx="551556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642360" y="2755440"/>
            <a:ext cx="551556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850680" y="6072120"/>
            <a:ext cx="551556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6642360" y="6072120"/>
            <a:ext cx="551556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850680" y="838080"/>
            <a:ext cx="1130292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850680" y="2755440"/>
            <a:ext cx="36392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2440" y="2755440"/>
            <a:ext cx="36392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8493840" y="2755440"/>
            <a:ext cx="36392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850680" y="6072120"/>
            <a:ext cx="36392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4672440" y="6072120"/>
            <a:ext cx="36392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8493840" y="6072120"/>
            <a:ext cx="36392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50680" y="838080"/>
            <a:ext cx="1130292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50680" y="2755440"/>
            <a:ext cx="551556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642360" y="2755440"/>
            <a:ext cx="551556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50680" y="6072120"/>
            <a:ext cx="551556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642360" y="6072120"/>
            <a:ext cx="551556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850680" y="838080"/>
            <a:ext cx="1130292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850680" y="2755440"/>
            <a:ext cx="11302920" cy="635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850680" y="838080"/>
            <a:ext cx="1130292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850680" y="2755440"/>
            <a:ext cx="1130292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50680" y="838080"/>
            <a:ext cx="1130292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850680" y="2755440"/>
            <a:ext cx="551556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6642360" y="2755440"/>
            <a:ext cx="551556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850680" y="838080"/>
            <a:ext cx="1130292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ubTitle"/>
          </p:nvPr>
        </p:nvSpPr>
        <p:spPr>
          <a:xfrm>
            <a:off x="850680" y="838080"/>
            <a:ext cx="1130292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0000"/>
              </a:lnSpc>
              <a:spcBef>
                <a:spcPts val="33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850680" y="838080"/>
            <a:ext cx="1130292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850680" y="2755440"/>
            <a:ext cx="551556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6642360" y="2755440"/>
            <a:ext cx="551556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850680" y="6072120"/>
            <a:ext cx="551556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850680" y="838080"/>
            <a:ext cx="1130292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850680" y="2755440"/>
            <a:ext cx="551556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6642360" y="2755440"/>
            <a:ext cx="551556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642360" y="6072120"/>
            <a:ext cx="551556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50680" y="838080"/>
            <a:ext cx="1130292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850680" y="2755440"/>
            <a:ext cx="551556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6642360" y="2755440"/>
            <a:ext cx="551556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850680" y="6072120"/>
            <a:ext cx="1130292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850680" y="838080"/>
            <a:ext cx="1130292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850680" y="2755440"/>
            <a:ext cx="1130292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850680" y="6072120"/>
            <a:ext cx="1130292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50680" y="838080"/>
            <a:ext cx="1130292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850680" y="2755440"/>
            <a:ext cx="551556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6642360" y="2755440"/>
            <a:ext cx="551556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850680" y="6072120"/>
            <a:ext cx="551556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6642360" y="6072120"/>
            <a:ext cx="551556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50680" y="838080"/>
            <a:ext cx="1130292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50680" y="2755440"/>
            <a:ext cx="36392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2440" y="2755440"/>
            <a:ext cx="36392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493840" y="2755440"/>
            <a:ext cx="36392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50680" y="6072120"/>
            <a:ext cx="36392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672440" y="6072120"/>
            <a:ext cx="36392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8493840" y="6072120"/>
            <a:ext cx="36392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50680" y="838080"/>
            <a:ext cx="1130292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850680" y="2755440"/>
            <a:ext cx="36392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2440" y="2755440"/>
            <a:ext cx="36392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8493840" y="2755440"/>
            <a:ext cx="36392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850680" y="6072120"/>
            <a:ext cx="36392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393" name="PlaceHolder 6"/>
          <p:cNvSpPr>
            <a:spLocks noGrp="1"/>
          </p:cNvSpPr>
          <p:nvPr>
            <p:ph/>
          </p:nvPr>
        </p:nvSpPr>
        <p:spPr>
          <a:xfrm>
            <a:off x="4672440" y="6072120"/>
            <a:ext cx="36392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394" name="PlaceHolder 7"/>
          <p:cNvSpPr>
            <a:spLocks noGrp="1"/>
          </p:cNvSpPr>
          <p:nvPr>
            <p:ph/>
          </p:nvPr>
        </p:nvSpPr>
        <p:spPr>
          <a:xfrm>
            <a:off x="8493840" y="6072120"/>
            <a:ext cx="36392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850680" y="838080"/>
            <a:ext cx="1130292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850680" y="2755440"/>
            <a:ext cx="11302920" cy="635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850680" y="838080"/>
            <a:ext cx="1130292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850680" y="2755440"/>
            <a:ext cx="1130292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850680" y="838080"/>
            <a:ext cx="1130292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850680" y="2755440"/>
            <a:ext cx="551556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6642360" y="2755440"/>
            <a:ext cx="551556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50680" y="838080"/>
            <a:ext cx="1130292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850680" y="838080"/>
            <a:ext cx="1130292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0000"/>
              </a:lnSpc>
              <a:spcBef>
                <a:spcPts val="33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850680" y="838080"/>
            <a:ext cx="1130292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850680" y="2755440"/>
            <a:ext cx="551556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6642360" y="2755440"/>
            <a:ext cx="551556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850680" y="6072120"/>
            <a:ext cx="551556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850680" y="838080"/>
            <a:ext cx="1130292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850680" y="2755440"/>
            <a:ext cx="551556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6642360" y="2755440"/>
            <a:ext cx="551556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642360" y="6072120"/>
            <a:ext cx="551556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850680" y="838080"/>
            <a:ext cx="1130292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850680" y="2755440"/>
            <a:ext cx="551556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6642360" y="2755440"/>
            <a:ext cx="551556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850680" y="6072120"/>
            <a:ext cx="1130292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850680" y="838080"/>
            <a:ext cx="1130292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850680" y="2755440"/>
            <a:ext cx="1130292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850680" y="6072120"/>
            <a:ext cx="1130292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850680" y="838080"/>
            <a:ext cx="1130292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850680" y="2755440"/>
            <a:ext cx="551556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6642360" y="2755440"/>
            <a:ext cx="551556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850680" y="6072120"/>
            <a:ext cx="551556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6642360" y="6072120"/>
            <a:ext cx="551556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850680" y="838080"/>
            <a:ext cx="1130292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850680" y="2755440"/>
            <a:ext cx="36392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2440" y="2755440"/>
            <a:ext cx="36392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8493840" y="2755440"/>
            <a:ext cx="36392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850680" y="6072120"/>
            <a:ext cx="36392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429" name="PlaceHolder 6"/>
          <p:cNvSpPr>
            <a:spLocks noGrp="1"/>
          </p:cNvSpPr>
          <p:nvPr>
            <p:ph/>
          </p:nvPr>
        </p:nvSpPr>
        <p:spPr>
          <a:xfrm>
            <a:off x="4672440" y="6072120"/>
            <a:ext cx="36392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430" name="PlaceHolder 7"/>
          <p:cNvSpPr>
            <a:spLocks noGrp="1"/>
          </p:cNvSpPr>
          <p:nvPr>
            <p:ph/>
          </p:nvPr>
        </p:nvSpPr>
        <p:spPr>
          <a:xfrm>
            <a:off x="8493840" y="6072120"/>
            <a:ext cx="36392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850680" y="838080"/>
            <a:ext cx="1130292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ubTitle"/>
          </p:nvPr>
        </p:nvSpPr>
        <p:spPr>
          <a:xfrm>
            <a:off x="850680" y="2755440"/>
            <a:ext cx="11302920" cy="635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850680" y="838080"/>
            <a:ext cx="1130292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850680" y="2755440"/>
            <a:ext cx="1130292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850680" y="838080"/>
            <a:ext cx="1130292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850680" y="2755440"/>
            <a:ext cx="551556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6642360" y="2755440"/>
            <a:ext cx="551556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850680" y="838080"/>
            <a:ext cx="1130292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ubTitle"/>
          </p:nvPr>
        </p:nvSpPr>
        <p:spPr>
          <a:xfrm>
            <a:off x="850680" y="838080"/>
            <a:ext cx="1130292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0000"/>
              </a:lnSpc>
              <a:spcBef>
                <a:spcPts val="33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850680" y="838080"/>
            <a:ext cx="1130292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850680" y="2755440"/>
            <a:ext cx="551556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6642360" y="2755440"/>
            <a:ext cx="551556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850680" y="6072120"/>
            <a:ext cx="551556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50680" y="838080"/>
            <a:ext cx="1130292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850680" y="2755440"/>
            <a:ext cx="11302920" cy="635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850680" y="838080"/>
            <a:ext cx="1130292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850680" y="2755440"/>
            <a:ext cx="551556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6642360" y="2755440"/>
            <a:ext cx="551556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6642360" y="6072120"/>
            <a:ext cx="551556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850680" y="838080"/>
            <a:ext cx="1130292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850680" y="2755440"/>
            <a:ext cx="551556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6642360" y="2755440"/>
            <a:ext cx="551556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850680" y="6072120"/>
            <a:ext cx="1130292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850680" y="838080"/>
            <a:ext cx="1130292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850680" y="2755440"/>
            <a:ext cx="1130292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850680" y="6072120"/>
            <a:ext cx="1130292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850680" y="838080"/>
            <a:ext cx="1130292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850680" y="2755440"/>
            <a:ext cx="551556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6642360" y="2755440"/>
            <a:ext cx="551556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850680" y="6072120"/>
            <a:ext cx="551556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6642360" y="6072120"/>
            <a:ext cx="551556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850680" y="838080"/>
            <a:ext cx="1130292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850680" y="2755440"/>
            <a:ext cx="36392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2440" y="2755440"/>
            <a:ext cx="36392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8493840" y="2755440"/>
            <a:ext cx="36392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850680" y="6072120"/>
            <a:ext cx="36392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467" name="PlaceHolder 6"/>
          <p:cNvSpPr>
            <a:spLocks noGrp="1"/>
          </p:cNvSpPr>
          <p:nvPr>
            <p:ph/>
          </p:nvPr>
        </p:nvSpPr>
        <p:spPr>
          <a:xfrm>
            <a:off x="4672440" y="6072120"/>
            <a:ext cx="36392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468" name="PlaceHolder 7"/>
          <p:cNvSpPr>
            <a:spLocks noGrp="1"/>
          </p:cNvSpPr>
          <p:nvPr>
            <p:ph/>
          </p:nvPr>
        </p:nvSpPr>
        <p:spPr>
          <a:xfrm>
            <a:off x="8493840" y="6072120"/>
            <a:ext cx="36392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850680" y="838080"/>
            <a:ext cx="1130292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850680" y="2755440"/>
            <a:ext cx="11302920" cy="635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850680" y="838080"/>
            <a:ext cx="1130292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850680" y="2755440"/>
            <a:ext cx="1130292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850680" y="838080"/>
            <a:ext cx="1130292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850680" y="2755440"/>
            <a:ext cx="551556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6642360" y="2755440"/>
            <a:ext cx="551556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850680" y="838080"/>
            <a:ext cx="1130292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50680" y="838080"/>
            <a:ext cx="1130292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50680" y="2755440"/>
            <a:ext cx="1130292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850680" y="838080"/>
            <a:ext cx="1130292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0000"/>
              </a:lnSpc>
              <a:spcBef>
                <a:spcPts val="33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850680" y="838080"/>
            <a:ext cx="1130292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850680" y="2755440"/>
            <a:ext cx="551556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6642360" y="2755440"/>
            <a:ext cx="551556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850680" y="6072120"/>
            <a:ext cx="551556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850680" y="838080"/>
            <a:ext cx="1130292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850680" y="2755440"/>
            <a:ext cx="551556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6642360" y="2755440"/>
            <a:ext cx="551556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6642360" y="6072120"/>
            <a:ext cx="551556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850680" y="838080"/>
            <a:ext cx="1130292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850680" y="2755440"/>
            <a:ext cx="551556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6642360" y="2755440"/>
            <a:ext cx="551556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850680" y="6072120"/>
            <a:ext cx="1130292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850680" y="838080"/>
            <a:ext cx="1130292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850680" y="2755440"/>
            <a:ext cx="1130292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850680" y="6072120"/>
            <a:ext cx="1130292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850680" y="838080"/>
            <a:ext cx="1130292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850680" y="2755440"/>
            <a:ext cx="551556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6642360" y="2755440"/>
            <a:ext cx="551556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850680" y="6072120"/>
            <a:ext cx="551556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6642360" y="6072120"/>
            <a:ext cx="551556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850680" y="838080"/>
            <a:ext cx="1130292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850680" y="2755440"/>
            <a:ext cx="36392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2440" y="2755440"/>
            <a:ext cx="36392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8493840" y="2755440"/>
            <a:ext cx="36392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850680" y="6072120"/>
            <a:ext cx="36392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4672440" y="6072120"/>
            <a:ext cx="36392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8493840" y="6072120"/>
            <a:ext cx="36392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850680" y="838080"/>
            <a:ext cx="1130292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subTitle"/>
          </p:nvPr>
        </p:nvSpPr>
        <p:spPr>
          <a:xfrm>
            <a:off x="850680" y="2755440"/>
            <a:ext cx="11302920" cy="635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850680" y="838080"/>
            <a:ext cx="1130292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850680" y="2755440"/>
            <a:ext cx="1130292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50680" y="838080"/>
            <a:ext cx="1130292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50680" y="2755440"/>
            <a:ext cx="551556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42360" y="2755440"/>
            <a:ext cx="551556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850680" y="838080"/>
            <a:ext cx="1130292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850680" y="2755440"/>
            <a:ext cx="551556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6642360" y="2755440"/>
            <a:ext cx="551556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850680" y="838080"/>
            <a:ext cx="1130292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ubTitle"/>
          </p:nvPr>
        </p:nvSpPr>
        <p:spPr>
          <a:xfrm>
            <a:off x="850680" y="838080"/>
            <a:ext cx="1130292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0000"/>
              </a:lnSpc>
              <a:spcBef>
                <a:spcPts val="33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850680" y="838080"/>
            <a:ext cx="1130292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850680" y="2755440"/>
            <a:ext cx="551556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6642360" y="2755440"/>
            <a:ext cx="551556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850680" y="6072120"/>
            <a:ext cx="551556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850680" y="838080"/>
            <a:ext cx="1130292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850680" y="2755440"/>
            <a:ext cx="551556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6642360" y="2755440"/>
            <a:ext cx="551556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6642360" y="6072120"/>
            <a:ext cx="551556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850680" y="838080"/>
            <a:ext cx="1130292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850680" y="2755440"/>
            <a:ext cx="551556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6642360" y="2755440"/>
            <a:ext cx="551556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850680" y="6072120"/>
            <a:ext cx="1130292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850680" y="838080"/>
            <a:ext cx="1130292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850680" y="2755440"/>
            <a:ext cx="1130292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850680" y="6072120"/>
            <a:ext cx="1130292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850680" y="838080"/>
            <a:ext cx="1130292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850680" y="2755440"/>
            <a:ext cx="551556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6642360" y="2755440"/>
            <a:ext cx="551556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850680" y="6072120"/>
            <a:ext cx="551556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6642360" y="6072120"/>
            <a:ext cx="551556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850680" y="838080"/>
            <a:ext cx="1130292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850680" y="2755440"/>
            <a:ext cx="36392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2440" y="2755440"/>
            <a:ext cx="36392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8493840" y="2755440"/>
            <a:ext cx="36392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850680" y="6072120"/>
            <a:ext cx="36392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539" name="PlaceHolder 6"/>
          <p:cNvSpPr>
            <a:spLocks noGrp="1"/>
          </p:cNvSpPr>
          <p:nvPr>
            <p:ph/>
          </p:nvPr>
        </p:nvSpPr>
        <p:spPr>
          <a:xfrm>
            <a:off x="4672440" y="6072120"/>
            <a:ext cx="36392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540" name="PlaceHolder 7"/>
          <p:cNvSpPr>
            <a:spLocks noGrp="1"/>
          </p:cNvSpPr>
          <p:nvPr>
            <p:ph/>
          </p:nvPr>
        </p:nvSpPr>
        <p:spPr>
          <a:xfrm>
            <a:off x="8493840" y="6072120"/>
            <a:ext cx="36392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50680" y="838080"/>
            <a:ext cx="1130292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850680" y="838080"/>
            <a:ext cx="1130292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0000"/>
              </a:lnSpc>
              <a:spcBef>
                <a:spcPts val="33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50680" y="838080"/>
            <a:ext cx="1130292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50680" y="2755440"/>
            <a:ext cx="551556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642360" y="2755440"/>
            <a:ext cx="551556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850680" y="6072120"/>
            <a:ext cx="551556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50680" y="838080"/>
            <a:ext cx="1130292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50680" y="2755440"/>
            <a:ext cx="11302920" cy="635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50680" y="838080"/>
            <a:ext cx="1130292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50680" y="2755440"/>
            <a:ext cx="551556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642360" y="2755440"/>
            <a:ext cx="551556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642360" y="6072120"/>
            <a:ext cx="551556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50680" y="838080"/>
            <a:ext cx="1130292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50680" y="2755440"/>
            <a:ext cx="551556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642360" y="2755440"/>
            <a:ext cx="551556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50680" y="6072120"/>
            <a:ext cx="1130292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50680" y="838080"/>
            <a:ext cx="1130292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50680" y="2755440"/>
            <a:ext cx="1130292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850680" y="6072120"/>
            <a:ext cx="1130292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50680" y="838080"/>
            <a:ext cx="1130292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50680" y="2755440"/>
            <a:ext cx="551556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642360" y="2755440"/>
            <a:ext cx="551556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50680" y="6072120"/>
            <a:ext cx="551556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642360" y="6072120"/>
            <a:ext cx="551556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50680" y="838080"/>
            <a:ext cx="1130292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50680" y="2755440"/>
            <a:ext cx="36392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2440" y="2755440"/>
            <a:ext cx="36392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493840" y="2755440"/>
            <a:ext cx="36392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850680" y="6072120"/>
            <a:ext cx="36392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4672440" y="6072120"/>
            <a:ext cx="36392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8493840" y="6072120"/>
            <a:ext cx="36392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50680" y="838080"/>
            <a:ext cx="1130292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850680" y="2755440"/>
            <a:ext cx="11302920" cy="635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50680" y="838080"/>
            <a:ext cx="1130292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50680" y="2755440"/>
            <a:ext cx="1130292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50680" y="838080"/>
            <a:ext cx="1130292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50680" y="2755440"/>
            <a:ext cx="551556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642360" y="2755440"/>
            <a:ext cx="551556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50680" y="838080"/>
            <a:ext cx="1130292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50680" y="838080"/>
            <a:ext cx="1130292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50680" y="2755440"/>
            <a:ext cx="1130292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850680" y="838080"/>
            <a:ext cx="1130292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0000"/>
              </a:lnSpc>
              <a:spcBef>
                <a:spcPts val="33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50680" y="838080"/>
            <a:ext cx="1130292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50680" y="2755440"/>
            <a:ext cx="551556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642360" y="2755440"/>
            <a:ext cx="551556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850680" y="6072120"/>
            <a:ext cx="551556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50680" y="838080"/>
            <a:ext cx="1130292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50680" y="2755440"/>
            <a:ext cx="551556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6642360" y="2755440"/>
            <a:ext cx="551556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642360" y="6072120"/>
            <a:ext cx="551556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50680" y="838080"/>
            <a:ext cx="1130292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50680" y="2755440"/>
            <a:ext cx="551556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6642360" y="2755440"/>
            <a:ext cx="551556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850680" y="6072120"/>
            <a:ext cx="1130292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50680" y="838080"/>
            <a:ext cx="1130292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50680" y="2755440"/>
            <a:ext cx="1130292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850680" y="6072120"/>
            <a:ext cx="1130292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50680" y="838080"/>
            <a:ext cx="1130292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50680" y="2755440"/>
            <a:ext cx="551556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6642360" y="2755440"/>
            <a:ext cx="551556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850680" y="6072120"/>
            <a:ext cx="551556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6642360" y="6072120"/>
            <a:ext cx="551556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50680" y="838080"/>
            <a:ext cx="1130292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50680" y="2755440"/>
            <a:ext cx="36392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2440" y="2755440"/>
            <a:ext cx="36392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8493840" y="2755440"/>
            <a:ext cx="36392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850680" y="6072120"/>
            <a:ext cx="36392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4672440" y="6072120"/>
            <a:ext cx="36392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8493840" y="6072120"/>
            <a:ext cx="36392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50680" y="838080"/>
            <a:ext cx="1130292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850680" y="2755440"/>
            <a:ext cx="11302920" cy="635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50680" y="838080"/>
            <a:ext cx="1130292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50680" y="2755440"/>
            <a:ext cx="1130292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50680" y="838080"/>
            <a:ext cx="1130292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50680" y="2755440"/>
            <a:ext cx="551556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642360" y="2755440"/>
            <a:ext cx="551556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50680" y="838080"/>
            <a:ext cx="1130292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50680" y="2755440"/>
            <a:ext cx="551556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6642360" y="2755440"/>
            <a:ext cx="551556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50680" y="838080"/>
            <a:ext cx="1130292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850680" y="838080"/>
            <a:ext cx="1130292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0000"/>
              </a:lnSpc>
              <a:spcBef>
                <a:spcPts val="33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50680" y="838080"/>
            <a:ext cx="1130292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50680" y="2755440"/>
            <a:ext cx="551556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6642360" y="2755440"/>
            <a:ext cx="551556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850680" y="6072120"/>
            <a:ext cx="551556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50680" y="838080"/>
            <a:ext cx="1130292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50680" y="2755440"/>
            <a:ext cx="551556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642360" y="2755440"/>
            <a:ext cx="551556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642360" y="6072120"/>
            <a:ext cx="551556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50680" y="838080"/>
            <a:ext cx="1130292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50680" y="2755440"/>
            <a:ext cx="551556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642360" y="2755440"/>
            <a:ext cx="551556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850680" y="6072120"/>
            <a:ext cx="1130292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50680" y="838080"/>
            <a:ext cx="1130292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50680" y="2755440"/>
            <a:ext cx="1130292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850680" y="6072120"/>
            <a:ext cx="1130292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50680" y="838080"/>
            <a:ext cx="1130292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50680" y="2755440"/>
            <a:ext cx="551556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642360" y="2755440"/>
            <a:ext cx="551556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850680" y="6072120"/>
            <a:ext cx="551556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6642360" y="6072120"/>
            <a:ext cx="551556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50680" y="838080"/>
            <a:ext cx="1130292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50680" y="2755440"/>
            <a:ext cx="36392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2440" y="2755440"/>
            <a:ext cx="36392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8493840" y="2755440"/>
            <a:ext cx="36392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850680" y="6072120"/>
            <a:ext cx="36392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4672440" y="6072120"/>
            <a:ext cx="36392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8493840" y="6072120"/>
            <a:ext cx="36392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50680" y="838080"/>
            <a:ext cx="1130292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50680" y="838080"/>
            <a:ext cx="1130292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850680" y="2755440"/>
            <a:ext cx="11302920" cy="635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50680" y="838080"/>
            <a:ext cx="1130292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50680" y="2755440"/>
            <a:ext cx="1130292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50680" y="838080"/>
            <a:ext cx="1130292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850680" y="2755440"/>
            <a:ext cx="551556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6642360" y="2755440"/>
            <a:ext cx="551556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50680" y="838080"/>
            <a:ext cx="1130292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850680" y="838080"/>
            <a:ext cx="1130292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0000"/>
              </a:lnSpc>
              <a:spcBef>
                <a:spcPts val="33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50680" y="838080"/>
            <a:ext cx="1130292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50680" y="2755440"/>
            <a:ext cx="551556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6642360" y="2755440"/>
            <a:ext cx="551556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850680" y="6072120"/>
            <a:ext cx="551556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50680" y="838080"/>
            <a:ext cx="1130292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50680" y="2755440"/>
            <a:ext cx="551556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642360" y="2755440"/>
            <a:ext cx="551556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642360" y="6072120"/>
            <a:ext cx="551556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50680" y="838080"/>
            <a:ext cx="1130292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50680" y="2755440"/>
            <a:ext cx="551556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6642360" y="2755440"/>
            <a:ext cx="551556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850680" y="6072120"/>
            <a:ext cx="1130292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50680" y="838080"/>
            <a:ext cx="1130292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850680" y="2755440"/>
            <a:ext cx="1130292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850680" y="6072120"/>
            <a:ext cx="1130292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50680" y="838080"/>
            <a:ext cx="1130292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50680" y="2755440"/>
            <a:ext cx="551556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642360" y="2755440"/>
            <a:ext cx="551556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850680" y="6072120"/>
            <a:ext cx="551556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6642360" y="6072120"/>
            <a:ext cx="551556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50680" y="838080"/>
            <a:ext cx="1130292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0000"/>
              </a:lnSpc>
              <a:spcBef>
                <a:spcPts val="33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50680" y="838080"/>
            <a:ext cx="1130292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50680" y="2755440"/>
            <a:ext cx="36392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2440" y="2755440"/>
            <a:ext cx="36392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8493840" y="2755440"/>
            <a:ext cx="36392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850680" y="6072120"/>
            <a:ext cx="36392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4672440" y="6072120"/>
            <a:ext cx="36392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8493840" y="6072120"/>
            <a:ext cx="36392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50680" y="838080"/>
            <a:ext cx="1130292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850680" y="2755440"/>
            <a:ext cx="11302920" cy="635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50680" y="838080"/>
            <a:ext cx="1130292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50680" y="2755440"/>
            <a:ext cx="1130292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50680" y="838080"/>
            <a:ext cx="1130292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50680" y="2755440"/>
            <a:ext cx="551556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6642360" y="2755440"/>
            <a:ext cx="551556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50680" y="838080"/>
            <a:ext cx="1130292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850680" y="838080"/>
            <a:ext cx="1130292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0000"/>
              </a:lnSpc>
              <a:spcBef>
                <a:spcPts val="33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50680" y="838080"/>
            <a:ext cx="1130292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50680" y="2755440"/>
            <a:ext cx="551556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6642360" y="2755440"/>
            <a:ext cx="551556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850680" y="6072120"/>
            <a:ext cx="551556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50680" y="838080"/>
            <a:ext cx="1130292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50680" y="2755440"/>
            <a:ext cx="551556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6642360" y="2755440"/>
            <a:ext cx="551556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642360" y="6072120"/>
            <a:ext cx="551556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50680" y="838080"/>
            <a:ext cx="1130292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50680" y="2755440"/>
            <a:ext cx="551556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6642360" y="2755440"/>
            <a:ext cx="551556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850680" y="6072120"/>
            <a:ext cx="1130292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50680" y="838080"/>
            <a:ext cx="1130292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50680" y="2755440"/>
            <a:ext cx="551556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42360" y="2755440"/>
            <a:ext cx="551556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50680" y="6072120"/>
            <a:ext cx="551556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50680" y="838080"/>
            <a:ext cx="1130292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850680" y="2755440"/>
            <a:ext cx="1130292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850680" y="6072120"/>
            <a:ext cx="1130292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50680" y="838080"/>
            <a:ext cx="1130292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50680" y="2755440"/>
            <a:ext cx="551556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6642360" y="2755440"/>
            <a:ext cx="551556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850680" y="6072120"/>
            <a:ext cx="551556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6642360" y="6072120"/>
            <a:ext cx="551556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50680" y="838080"/>
            <a:ext cx="1130292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50680" y="2755440"/>
            <a:ext cx="36392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2440" y="2755440"/>
            <a:ext cx="36392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8493840" y="2755440"/>
            <a:ext cx="36392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850680" y="6072120"/>
            <a:ext cx="36392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4672440" y="6072120"/>
            <a:ext cx="36392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8493840" y="6072120"/>
            <a:ext cx="36392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50680" y="838080"/>
            <a:ext cx="1130292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850680" y="2755440"/>
            <a:ext cx="11302920" cy="635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50680" y="838080"/>
            <a:ext cx="1130292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50680" y="2755440"/>
            <a:ext cx="1130292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50680" y="838080"/>
            <a:ext cx="1130292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850680" y="2755440"/>
            <a:ext cx="551556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6642360" y="2755440"/>
            <a:ext cx="551556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50680" y="838080"/>
            <a:ext cx="1130292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850680" y="838080"/>
            <a:ext cx="1130292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0000"/>
              </a:lnSpc>
              <a:spcBef>
                <a:spcPts val="33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50680" y="838080"/>
            <a:ext cx="1130292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50680" y="2755440"/>
            <a:ext cx="551556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6642360" y="2755440"/>
            <a:ext cx="551556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850680" y="6072120"/>
            <a:ext cx="551556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50680" y="838080"/>
            <a:ext cx="1130292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50680" y="2755440"/>
            <a:ext cx="551556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42360" y="2755440"/>
            <a:ext cx="551556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642360" y="6072120"/>
            <a:ext cx="551556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50680" y="838080"/>
            <a:ext cx="1130292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850680" y="2755440"/>
            <a:ext cx="551556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6642360" y="2755440"/>
            <a:ext cx="551556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642360" y="6072120"/>
            <a:ext cx="551556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50680" y="838080"/>
            <a:ext cx="1130292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850680" y="2755440"/>
            <a:ext cx="551556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6642360" y="2755440"/>
            <a:ext cx="551556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850680" y="6072120"/>
            <a:ext cx="1130292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50680" y="838080"/>
            <a:ext cx="1130292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850680" y="2755440"/>
            <a:ext cx="1130292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850680" y="6072120"/>
            <a:ext cx="1130292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50680" y="838080"/>
            <a:ext cx="1130292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50680" y="2755440"/>
            <a:ext cx="551556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642360" y="2755440"/>
            <a:ext cx="551556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50680" y="6072120"/>
            <a:ext cx="551556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6642360" y="6072120"/>
            <a:ext cx="551556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50680" y="838080"/>
            <a:ext cx="1130292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850680" y="2755440"/>
            <a:ext cx="36392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2440" y="2755440"/>
            <a:ext cx="36392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8493840" y="2755440"/>
            <a:ext cx="36392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850680" y="6072120"/>
            <a:ext cx="36392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4672440" y="6072120"/>
            <a:ext cx="36392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8493840" y="6072120"/>
            <a:ext cx="36392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50680" y="838080"/>
            <a:ext cx="1130292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subTitle"/>
          </p:nvPr>
        </p:nvSpPr>
        <p:spPr>
          <a:xfrm>
            <a:off x="850680" y="2755440"/>
            <a:ext cx="11302920" cy="635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50680" y="838080"/>
            <a:ext cx="1130292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850680" y="2755440"/>
            <a:ext cx="1130292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50680" y="838080"/>
            <a:ext cx="1130292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850680" y="2755440"/>
            <a:ext cx="551556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6642360" y="2755440"/>
            <a:ext cx="551556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50680" y="838080"/>
            <a:ext cx="1130292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50680" y="838080"/>
            <a:ext cx="1130292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50680" y="2755440"/>
            <a:ext cx="551556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642360" y="2755440"/>
            <a:ext cx="551556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50680" y="6072120"/>
            <a:ext cx="1130292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ubTitle"/>
          </p:nvPr>
        </p:nvSpPr>
        <p:spPr>
          <a:xfrm>
            <a:off x="850680" y="838080"/>
            <a:ext cx="1130292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0000"/>
              </a:lnSpc>
              <a:spcBef>
                <a:spcPts val="33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50680" y="838080"/>
            <a:ext cx="1130292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850680" y="2755440"/>
            <a:ext cx="551556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6642360" y="2755440"/>
            <a:ext cx="551556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850680" y="6072120"/>
            <a:ext cx="551556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50680" y="838080"/>
            <a:ext cx="1130292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50680" y="2755440"/>
            <a:ext cx="551556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642360" y="2755440"/>
            <a:ext cx="551556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642360" y="6072120"/>
            <a:ext cx="551556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50680" y="838080"/>
            <a:ext cx="1130292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850680" y="2755440"/>
            <a:ext cx="551556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6642360" y="2755440"/>
            <a:ext cx="551556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850680" y="6072120"/>
            <a:ext cx="1130292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50680" y="838080"/>
            <a:ext cx="1130292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850680" y="2755440"/>
            <a:ext cx="1130292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850680" y="6072120"/>
            <a:ext cx="1130292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50680" y="838080"/>
            <a:ext cx="1130292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850680" y="2755440"/>
            <a:ext cx="551556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6642360" y="2755440"/>
            <a:ext cx="551556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850680" y="6072120"/>
            <a:ext cx="551556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6642360" y="6072120"/>
            <a:ext cx="551556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50680" y="838080"/>
            <a:ext cx="1130292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50680" y="2755440"/>
            <a:ext cx="36392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2440" y="2755440"/>
            <a:ext cx="36392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8493840" y="2755440"/>
            <a:ext cx="36392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850680" y="6072120"/>
            <a:ext cx="36392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317" name="PlaceHolder 6"/>
          <p:cNvSpPr>
            <a:spLocks noGrp="1"/>
          </p:cNvSpPr>
          <p:nvPr>
            <p:ph/>
          </p:nvPr>
        </p:nvSpPr>
        <p:spPr>
          <a:xfrm>
            <a:off x="4672440" y="6072120"/>
            <a:ext cx="36392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318" name="PlaceHolder 7"/>
          <p:cNvSpPr>
            <a:spLocks noGrp="1"/>
          </p:cNvSpPr>
          <p:nvPr>
            <p:ph/>
          </p:nvPr>
        </p:nvSpPr>
        <p:spPr>
          <a:xfrm>
            <a:off x="8493840" y="6072120"/>
            <a:ext cx="36392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50680" y="838080"/>
            <a:ext cx="1130292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850680" y="2755440"/>
            <a:ext cx="11302920" cy="635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50680" y="838080"/>
            <a:ext cx="1130292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850680" y="2755440"/>
            <a:ext cx="1130292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17440" y="2463480"/>
            <a:ext cx="10769760" cy="25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700" spc="-1" strike="noStrike">
                <a:solidFill>
                  <a:srgbClr val="000000"/>
                </a:solidFill>
                <a:latin typeface="Academy Engraved LET"/>
              </a:rPr>
              <a:t>Click to edit the title text format</a:t>
            </a: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17440" y="5041800"/>
            <a:ext cx="1076976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6000"/>
          </a:bodyPr>
          <a:p>
            <a:pPr indent="0"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3521"/>
                </a:solidFill>
                <a:latin typeface="Bodoni SvtyTwo SC ITC TT-Book"/>
              </a:rPr>
              <a:t>Click to edit the outline text format</a:t>
            </a:r>
            <a:endParaRPr b="0" lang="en-US" sz="3600" spc="-1" strike="noStrike">
              <a:solidFill>
                <a:srgbClr val="a53521"/>
              </a:solidFill>
              <a:latin typeface="Bodoni SvtyTwo SC ITC TT-Book"/>
            </a:endParaRPr>
          </a:p>
          <a:p>
            <a:pPr lvl="1" algn="ctr">
              <a:lnSpc>
                <a:spcPct val="90000"/>
              </a:lnSpc>
              <a:spcBef>
                <a:spcPts val="1199"/>
              </a:spcBef>
              <a:buClr>
                <a:srgbClr val="a53521"/>
              </a:buClr>
              <a:buFont typeface="Bodoni SvtyTwo SC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3521"/>
                </a:solidFill>
                <a:latin typeface="Bodoni SvtyTwo SC ITC TT-Book"/>
              </a:rPr>
              <a:t>Second Outline Level</a:t>
            </a:r>
            <a:endParaRPr b="0" lang="en-US" sz="3600" spc="-1" strike="noStrike">
              <a:solidFill>
                <a:srgbClr val="a53521"/>
              </a:solidFill>
              <a:latin typeface="Bodoni SvtyTwo SC ITC TT-Book"/>
            </a:endParaRPr>
          </a:p>
          <a:p>
            <a:pPr lvl="2" algn="ctr">
              <a:lnSpc>
                <a:spcPct val="90000"/>
              </a:lnSpc>
              <a:spcBef>
                <a:spcPts val="1199"/>
              </a:spcBef>
              <a:buClr>
                <a:srgbClr val="a53521"/>
              </a:buClr>
              <a:buFont typeface="Bodoni SvtyTwo SC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3521"/>
                </a:solidFill>
                <a:latin typeface="Bodoni SvtyTwo SC ITC TT-Book"/>
              </a:rPr>
              <a:t>Third Outline Level</a:t>
            </a:r>
            <a:endParaRPr b="0" lang="en-US" sz="3600" spc="-1" strike="noStrike">
              <a:solidFill>
                <a:srgbClr val="a53521"/>
              </a:solidFill>
              <a:latin typeface="Bodoni SvtyTwo SC ITC TT-Book"/>
            </a:endParaRPr>
          </a:p>
          <a:p>
            <a:pPr lvl="3" algn="ctr">
              <a:lnSpc>
                <a:spcPct val="90000"/>
              </a:lnSpc>
              <a:spcBef>
                <a:spcPts val="1199"/>
              </a:spcBef>
              <a:buClr>
                <a:srgbClr val="a53521"/>
              </a:buClr>
              <a:buFont typeface="Bodoni SvtyTwo SC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3521"/>
                </a:solidFill>
                <a:latin typeface="Bodoni SvtyTwo SC ITC TT-Book"/>
              </a:rPr>
              <a:t>Fourth Outline Level</a:t>
            </a:r>
            <a:endParaRPr b="0" lang="en-US" sz="3600" spc="-1" strike="noStrike">
              <a:solidFill>
                <a:srgbClr val="a53521"/>
              </a:solidFill>
              <a:latin typeface="Bodoni SvtyTwo SC ITC TT-Book"/>
            </a:endParaRPr>
          </a:p>
          <a:p>
            <a:pPr lvl="4" algn="ctr">
              <a:lnSpc>
                <a:spcPct val="90000"/>
              </a:lnSpc>
              <a:spcBef>
                <a:spcPts val="1199"/>
              </a:spcBef>
              <a:buClr>
                <a:srgbClr val="a53521"/>
              </a:buClr>
              <a:buFont typeface="Bodoni SvtyTwo SC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3521"/>
                </a:solidFill>
                <a:latin typeface="Bodoni SvtyTwo SC ITC TT-Book"/>
              </a:rPr>
              <a:t>Fifth Outline Level</a:t>
            </a:r>
            <a:endParaRPr b="0" lang="en-US" sz="3600" spc="-1" strike="noStrike">
              <a:solidFill>
                <a:srgbClr val="a53521"/>
              </a:solidFill>
              <a:latin typeface="Bodoni SvtyTwo SC ITC TT-Book"/>
            </a:endParaRPr>
          </a:p>
          <a:p>
            <a:pPr lvl="5" algn="ctr">
              <a:lnSpc>
                <a:spcPct val="90000"/>
              </a:lnSpc>
              <a:spcBef>
                <a:spcPts val="1199"/>
              </a:spcBef>
              <a:buClr>
                <a:srgbClr val="45433a"/>
              </a:buClr>
              <a:buFont typeface="Bodoni SvtyTwo SC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3521"/>
                </a:solidFill>
                <a:latin typeface="Bodoni SvtyTwo SC ITC TT-Book"/>
              </a:rPr>
              <a:t>Sixth Outline Level</a:t>
            </a:r>
            <a:endParaRPr b="0" lang="en-US" sz="3600" spc="-1" strike="noStrike">
              <a:solidFill>
                <a:srgbClr val="a53521"/>
              </a:solidFill>
              <a:latin typeface="Bodoni SvtyTwo SC ITC TT-Book"/>
            </a:endParaRPr>
          </a:p>
          <a:p>
            <a:pPr lvl="6" algn="ctr">
              <a:lnSpc>
                <a:spcPct val="90000"/>
              </a:lnSpc>
              <a:spcBef>
                <a:spcPts val="1199"/>
              </a:spcBef>
              <a:buClr>
                <a:srgbClr val="45433a"/>
              </a:buClr>
              <a:buFont typeface="Bodoni SvtyTwo SC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3521"/>
                </a:solidFill>
                <a:latin typeface="Bodoni SvtyTwo SC ITC TT-Book"/>
              </a:rPr>
              <a:t>Seventh Outline Level</a:t>
            </a:r>
            <a:endParaRPr b="0" lang="en-US" sz="3600" spc="-1" strike="noStrike">
              <a:solidFill>
                <a:srgbClr val="a53521"/>
              </a:solidFill>
              <a:latin typeface="Bodoni SvtyTwo SC ITC TT-Book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07280" cy="88920"/>
            <a:chOff x="0" y="0"/>
            <a:chExt cx="10007280" cy="88920"/>
          </a:xfrm>
        </p:grpSpPr>
        <p:pic>
          <p:nvPicPr>
            <p:cNvPr id="3" name="" descr=""/>
            <p:cNvPicPr/>
            <p:nvPr/>
          </p:nvPicPr>
          <p:blipFill>
            <a:blip r:embed="rId3"/>
            <a:stretch/>
          </p:blipFill>
          <p:spPr>
            <a:xfrm>
              <a:off x="0" y="38160"/>
              <a:ext cx="486396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" name="" descr=""/>
            <p:cNvPicPr/>
            <p:nvPr/>
          </p:nvPicPr>
          <p:blipFill>
            <a:blip r:embed="rId4"/>
            <a:stretch/>
          </p:blipFill>
          <p:spPr>
            <a:xfrm rot="10800000">
              <a:off x="5143320" y="37440"/>
              <a:ext cx="486396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" name="" descr=""/>
            <p:cNvPicPr/>
            <p:nvPr/>
          </p:nvPicPr>
          <p:blipFill>
            <a:blip r:embed="rId5"/>
            <a:stretch/>
          </p:blipFill>
          <p:spPr>
            <a:xfrm>
              <a:off x="4851360" y="0"/>
              <a:ext cx="304920" cy="8892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850680" y="837720"/>
            <a:ext cx="11302920" cy="8077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0000"/>
          </a:bodyPr>
          <a:p>
            <a:pPr marL="385920" indent="-385920">
              <a:lnSpc>
                <a:spcPct val="120000"/>
              </a:lnSpc>
              <a:spcBef>
                <a:spcPts val="5499"/>
              </a:spcBef>
              <a:buClr>
                <a:srgbClr val="45433a"/>
              </a:buClr>
              <a:buSzPct val="9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45433a"/>
                </a:solidFill>
                <a:latin typeface="Hoefler Text"/>
              </a:rPr>
              <a:t>Click to edit the outline text format</a:t>
            </a:r>
            <a:endParaRPr b="0" lang="en-US" sz="4500" spc="-1" strike="noStrike">
              <a:solidFill>
                <a:srgbClr val="45433a"/>
              </a:solidFill>
              <a:latin typeface="Hoefler Text"/>
            </a:endParaRPr>
          </a:p>
          <a:p>
            <a:pPr lvl="1" marL="700920" indent="-385920">
              <a:lnSpc>
                <a:spcPct val="120000"/>
              </a:lnSpc>
              <a:spcBef>
                <a:spcPts val="5499"/>
              </a:spcBef>
              <a:buClr>
                <a:srgbClr val="45433a"/>
              </a:buClr>
              <a:buSzPct val="9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45433a"/>
                </a:solidFill>
                <a:latin typeface="Hoefler Text"/>
              </a:rPr>
              <a:t>Second Outline Level</a:t>
            </a:r>
            <a:endParaRPr b="0" lang="en-US" sz="4500" spc="-1" strike="noStrike">
              <a:solidFill>
                <a:srgbClr val="45433a"/>
              </a:solidFill>
              <a:latin typeface="Hoefler Text"/>
            </a:endParaRPr>
          </a:p>
          <a:p>
            <a:pPr lvl="2" marL="1056600" indent="-385920">
              <a:lnSpc>
                <a:spcPct val="120000"/>
              </a:lnSpc>
              <a:spcBef>
                <a:spcPts val="5499"/>
              </a:spcBef>
              <a:buClr>
                <a:srgbClr val="45433a"/>
              </a:buClr>
              <a:buSzPct val="9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45433a"/>
                </a:solidFill>
                <a:latin typeface="Hoefler Text"/>
              </a:rPr>
              <a:t>Third Outline Level</a:t>
            </a:r>
            <a:endParaRPr b="0" lang="en-US" sz="4500" spc="-1" strike="noStrike">
              <a:solidFill>
                <a:srgbClr val="45433a"/>
              </a:solidFill>
              <a:latin typeface="Hoefler Text"/>
            </a:endParaRPr>
          </a:p>
          <a:p>
            <a:pPr lvl="3" marL="1412280" indent="-385920">
              <a:lnSpc>
                <a:spcPct val="120000"/>
              </a:lnSpc>
              <a:spcBef>
                <a:spcPts val="5499"/>
              </a:spcBef>
              <a:buClr>
                <a:srgbClr val="45433a"/>
              </a:buClr>
              <a:buSzPct val="9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45433a"/>
                </a:solidFill>
                <a:latin typeface="Hoefler Text"/>
              </a:rPr>
              <a:t>Fourth Outline Level</a:t>
            </a:r>
            <a:endParaRPr b="0" lang="en-US" sz="4500" spc="-1" strike="noStrike">
              <a:solidFill>
                <a:srgbClr val="45433a"/>
              </a:solidFill>
              <a:latin typeface="Hoefler Text"/>
            </a:endParaRPr>
          </a:p>
          <a:p>
            <a:pPr lvl="4" marL="1767600" indent="-385920">
              <a:lnSpc>
                <a:spcPct val="120000"/>
              </a:lnSpc>
              <a:spcBef>
                <a:spcPts val="5499"/>
              </a:spcBef>
              <a:buClr>
                <a:srgbClr val="45433a"/>
              </a:buClr>
              <a:buSzPct val="9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45433a"/>
                </a:solidFill>
                <a:latin typeface="Hoefler Text"/>
              </a:rPr>
              <a:t>Fifth Outline Level</a:t>
            </a:r>
            <a:endParaRPr b="0" lang="en-US" sz="4500" spc="-1" strike="noStrike">
              <a:solidFill>
                <a:srgbClr val="45433a"/>
              </a:solidFill>
              <a:latin typeface="Hoefler Text"/>
            </a:endParaRPr>
          </a:p>
          <a:p>
            <a:pPr lvl="5" marL="1767600" indent="-385920">
              <a:lnSpc>
                <a:spcPct val="120000"/>
              </a:lnSpc>
              <a:spcBef>
                <a:spcPts val="5499"/>
              </a:spcBef>
              <a:buClr>
                <a:srgbClr val="45433a"/>
              </a:buClr>
              <a:buSzPct val="9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45433a"/>
                </a:solidFill>
                <a:latin typeface="Hoefler Text"/>
              </a:rPr>
              <a:t>Sixth Outline Level</a:t>
            </a:r>
            <a:endParaRPr b="0" lang="en-US" sz="4500" spc="-1" strike="noStrike">
              <a:solidFill>
                <a:srgbClr val="45433a"/>
              </a:solidFill>
              <a:latin typeface="Hoefler Text"/>
            </a:endParaRPr>
          </a:p>
          <a:p>
            <a:pPr lvl="6" marL="1767600" indent="-385920">
              <a:lnSpc>
                <a:spcPct val="120000"/>
              </a:lnSpc>
              <a:spcBef>
                <a:spcPts val="5499"/>
              </a:spcBef>
              <a:buClr>
                <a:srgbClr val="45433a"/>
              </a:buClr>
              <a:buSzPct val="9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45433a"/>
                </a:solidFill>
                <a:latin typeface="Hoefler Text"/>
              </a:rPr>
              <a:t>Seventh Outline Level</a:t>
            </a:r>
            <a:endParaRPr b="0" lang="en-US" sz="45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850680" y="838080"/>
            <a:ext cx="1130292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700" spc="-1" strike="noStrike">
                <a:solidFill>
                  <a:srgbClr val="000000"/>
                </a:solidFill>
                <a:latin typeface="Academy Engraved LET"/>
              </a:rPr>
              <a:t>Click to edit the title text format</a:t>
            </a: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432" name=""/>
          <p:cNvSpPr/>
          <p:nvPr/>
        </p:nvSpPr>
        <p:spPr>
          <a:xfrm>
            <a:off x="316080" y="2438280"/>
            <a:ext cx="12384000" cy="0"/>
          </a:xfrm>
          <a:prstGeom prst="line">
            <a:avLst/>
          </a:prstGeom>
          <a:ln w="12600">
            <a:solidFill>
              <a:srgbClr val="866c60">
                <a:alpha val="7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50680" y="838080"/>
            <a:ext cx="1130292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700" spc="-1" strike="noStrike">
                <a:solidFill>
                  <a:srgbClr val="000000"/>
                </a:solidFill>
                <a:latin typeface="Academy Engraved LET"/>
              </a:rPr>
              <a:t>Click to edit the title text format</a:t>
            </a: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850680" y="2755440"/>
            <a:ext cx="1130292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7000"/>
          </a:bodyPr>
          <a:p>
            <a:pPr marL="468000" indent="-468000">
              <a:lnSpc>
                <a:spcPct val="110000"/>
              </a:lnSpc>
              <a:spcBef>
                <a:spcPts val="3300"/>
              </a:spcBef>
              <a:buClr>
                <a:srgbClr val="45433a"/>
              </a:buClr>
              <a:buSzPct val="9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45433a"/>
                </a:solidFill>
                <a:latin typeface="Hoefler Text"/>
              </a:rPr>
              <a:t>Click to edit the outline text format</a:t>
            </a: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  <a:p>
            <a:pPr lvl="1" marL="849600" indent="-467640">
              <a:lnSpc>
                <a:spcPct val="110000"/>
              </a:lnSpc>
              <a:spcBef>
                <a:spcPts val="3300"/>
              </a:spcBef>
              <a:buClr>
                <a:srgbClr val="45433a"/>
              </a:buClr>
              <a:buSzPct val="9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45433a"/>
                </a:solidFill>
                <a:latin typeface="Hoefler Text"/>
              </a:rPr>
              <a:t>Second Outline Level</a:t>
            </a: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  <a:p>
            <a:pPr lvl="2" marL="1280880" indent="-468000">
              <a:lnSpc>
                <a:spcPct val="110000"/>
              </a:lnSpc>
              <a:spcBef>
                <a:spcPts val="3300"/>
              </a:spcBef>
              <a:buClr>
                <a:srgbClr val="45433a"/>
              </a:buClr>
              <a:buSzPct val="9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45433a"/>
                </a:solidFill>
                <a:latin typeface="Hoefler Text"/>
              </a:rPr>
              <a:t>Third Outline Level</a:t>
            </a: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  <a:p>
            <a:pPr lvl="3" marL="1712160" indent="-468000">
              <a:lnSpc>
                <a:spcPct val="110000"/>
              </a:lnSpc>
              <a:spcBef>
                <a:spcPts val="3300"/>
              </a:spcBef>
              <a:buClr>
                <a:srgbClr val="45433a"/>
              </a:buClr>
              <a:buSzPct val="9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45433a"/>
                </a:solidFill>
                <a:latin typeface="Hoefler Text"/>
              </a:rPr>
              <a:t>Fourth Outline Level</a:t>
            </a: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  <a:p>
            <a:pPr lvl="4" marL="2143080" indent="-467640">
              <a:lnSpc>
                <a:spcPct val="110000"/>
              </a:lnSpc>
              <a:spcBef>
                <a:spcPts val="3300"/>
              </a:spcBef>
              <a:buClr>
                <a:srgbClr val="45433a"/>
              </a:buClr>
              <a:buSzPct val="9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45433a"/>
                </a:solidFill>
                <a:latin typeface="Hoefler Text"/>
              </a:rPr>
              <a:t>Fifth Outline Level</a:t>
            </a: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  <a:p>
            <a:pPr lvl="5" marL="2143080" indent="-467640">
              <a:lnSpc>
                <a:spcPct val="110000"/>
              </a:lnSpc>
              <a:spcBef>
                <a:spcPts val="3300"/>
              </a:spcBef>
              <a:buClr>
                <a:srgbClr val="45433a"/>
              </a:buClr>
              <a:buSzPct val="9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45433a"/>
                </a:solidFill>
                <a:latin typeface="Hoefler Text"/>
              </a:rPr>
              <a:t>Sixth Outline Level</a:t>
            </a: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  <a:p>
            <a:pPr lvl="6" marL="2143080" indent="-467640">
              <a:lnSpc>
                <a:spcPct val="110000"/>
              </a:lnSpc>
              <a:spcBef>
                <a:spcPts val="3300"/>
              </a:spcBef>
              <a:buClr>
                <a:srgbClr val="45433a"/>
              </a:buClr>
              <a:buSzPct val="9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45433a"/>
                </a:solidFill>
                <a:latin typeface="Hoefler Text"/>
              </a:rPr>
              <a:t>Seventh Outline Level</a:t>
            </a: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44" name=""/>
          <p:cNvSpPr/>
          <p:nvPr/>
        </p:nvSpPr>
        <p:spPr>
          <a:xfrm>
            <a:off x="291960" y="2438280"/>
            <a:ext cx="12420720" cy="0"/>
          </a:xfrm>
          <a:prstGeom prst="line">
            <a:avLst/>
          </a:prstGeom>
          <a:ln w="12600">
            <a:solidFill>
              <a:srgbClr val="866c60">
                <a:alpha val="7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17440" y="2971440"/>
            <a:ext cx="1076976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cademy Engraved LET"/>
              </a:rPr>
              <a:t>Click to edit the title text format</a:t>
            </a:r>
            <a:endParaRPr b="0" lang="en-US" sz="7200" spc="-1" strike="noStrike">
              <a:solidFill>
                <a:srgbClr val="000000"/>
              </a:solidFill>
              <a:latin typeface="Academy Engraved LE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body"/>
          </p:nvPr>
        </p:nvSpPr>
        <p:spPr>
          <a:xfrm>
            <a:off x="1117440" y="2273040"/>
            <a:ext cx="10769760" cy="647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12000"/>
          </a:bodyPr>
          <a:p>
            <a:pPr indent="0"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3521"/>
                </a:solidFill>
                <a:latin typeface="Bodoni SvtyTwo SC ITC TT-Book"/>
              </a:rPr>
              <a:t>Click to edit the outline text format</a:t>
            </a:r>
            <a:endParaRPr b="0" lang="en-US" sz="3600" spc="-1" strike="noStrike">
              <a:solidFill>
                <a:srgbClr val="a53521"/>
              </a:solidFill>
              <a:latin typeface="Bodoni SvtyTwo SC ITC TT-Book"/>
            </a:endParaRPr>
          </a:p>
          <a:p>
            <a:pPr lvl="1" algn="ctr">
              <a:lnSpc>
                <a:spcPct val="90000"/>
              </a:lnSpc>
              <a:spcBef>
                <a:spcPts val="1199"/>
              </a:spcBef>
              <a:buClr>
                <a:srgbClr val="a53521"/>
              </a:buClr>
              <a:buFont typeface="Bodoni SvtyTwo SC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3521"/>
                </a:solidFill>
                <a:latin typeface="Bodoni SvtyTwo SC ITC TT-Book"/>
              </a:rPr>
              <a:t>Second Outline Level</a:t>
            </a:r>
            <a:endParaRPr b="0" lang="en-US" sz="3600" spc="-1" strike="noStrike">
              <a:solidFill>
                <a:srgbClr val="a53521"/>
              </a:solidFill>
              <a:latin typeface="Bodoni SvtyTwo SC ITC TT-Book"/>
            </a:endParaRPr>
          </a:p>
          <a:p>
            <a:pPr lvl="2" algn="ctr">
              <a:lnSpc>
                <a:spcPct val="90000"/>
              </a:lnSpc>
              <a:spcBef>
                <a:spcPts val="1199"/>
              </a:spcBef>
              <a:buClr>
                <a:srgbClr val="a53521"/>
              </a:buClr>
              <a:buFont typeface="Bodoni SvtyTwo SC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3521"/>
                </a:solidFill>
                <a:latin typeface="Bodoni SvtyTwo SC ITC TT-Book"/>
              </a:rPr>
              <a:t>Third Outline Level</a:t>
            </a:r>
            <a:endParaRPr b="0" lang="en-US" sz="3600" spc="-1" strike="noStrike">
              <a:solidFill>
                <a:srgbClr val="a53521"/>
              </a:solidFill>
              <a:latin typeface="Bodoni SvtyTwo SC ITC TT-Book"/>
            </a:endParaRPr>
          </a:p>
          <a:p>
            <a:pPr lvl="3" algn="ctr">
              <a:lnSpc>
                <a:spcPct val="90000"/>
              </a:lnSpc>
              <a:spcBef>
                <a:spcPts val="1199"/>
              </a:spcBef>
              <a:buClr>
                <a:srgbClr val="a53521"/>
              </a:buClr>
              <a:buFont typeface="Bodoni SvtyTwo SC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3521"/>
                </a:solidFill>
                <a:latin typeface="Bodoni SvtyTwo SC ITC TT-Book"/>
              </a:rPr>
              <a:t>Fourth Outline Level</a:t>
            </a:r>
            <a:endParaRPr b="0" lang="en-US" sz="3600" spc="-1" strike="noStrike">
              <a:solidFill>
                <a:srgbClr val="a53521"/>
              </a:solidFill>
              <a:latin typeface="Bodoni SvtyTwo SC ITC TT-Book"/>
            </a:endParaRPr>
          </a:p>
          <a:p>
            <a:pPr lvl="4" algn="ctr">
              <a:lnSpc>
                <a:spcPct val="90000"/>
              </a:lnSpc>
              <a:spcBef>
                <a:spcPts val="1199"/>
              </a:spcBef>
              <a:buClr>
                <a:srgbClr val="a53521"/>
              </a:buClr>
              <a:buFont typeface="Bodoni SvtyTwo SC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3521"/>
                </a:solidFill>
                <a:latin typeface="Bodoni SvtyTwo SC ITC TT-Book"/>
              </a:rPr>
              <a:t>Fifth Outline Level</a:t>
            </a:r>
            <a:endParaRPr b="0" lang="en-US" sz="3600" spc="-1" strike="noStrike">
              <a:solidFill>
                <a:srgbClr val="a53521"/>
              </a:solidFill>
              <a:latin typeface="Bodoni SvtyTwo SC ITC TT-Book"/>
            </a:endParaRPr>
          </a:p>
          <a:p>
            <a:pPr lvl="5" algn="ctr">
              <a:lnSpc>
                <a:spcPct val="90000"/>
              </a:lnSpc>
              <a:spcBef>
                <a:spcPts val="1199"/>
              </a:spcBef>
              <a:buClr>
                <a:srgbClr val="45433a"/>
              </a:buClr>
              <a:buFont typeface="Bodoni SvtyTwo SC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3521"/>
                </a:solidFill>
                <a:latin typeface="Bodoni SvtyTwo SC ITC TT-Book"/>
              </a:rPr>
              <a:t>Sixth Outline Level</a:t>
            </a:r>
            <a:endParaRPr b="0" lang="en-US" sz="3600" spc="-1" strike="noStrike">
              <a:solidFill>
                <a:srgbClr val="a53521"/>
              </a:solidFill>
              <a:latin typeface="Bodoni SvtyTwo SC ITC TT-Book"/>
            </a:endParaRPr>
          </a:p>
          <a:p>
            <a:pPr lvl="6" algn="ctr">
              <a:lnSpc>
                <a:spcPct val="90000"/>
              </a:lnSpc>
              <a:spcBef>
                <a:spcPts val="1199"/>
              </a:spcBef>
              <a:buClr>
                <a:srgbClr val="45433a"/>
              </a:buClr>
              <a:buFont typeface="Bodoni SvtyTwo SC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3521"/>
                </a:solidFill>
                <a:latin typeface="Bodoni SvtyTwo SC ITC TT-Book"/>
              </a:rPr>
              <a:t>Seventh Outline Level</a:t>
            </a:r>
            <a:endParaRPr b="0" lang="en-US" sz="3600" spc="-1" strike="noStrike">
              <a:solidFill>
                <a:srgbClr val="a53521"/>
              </a:solidFill>
              <a:latin typeface="Bodoni SvtyTwo SC ITC TT-Book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0" y="0"/>
            <a:ext cx="10007280" cy="88920"/>
            <a:chOff x="0" y="0"/>
            <a:chExt cx="10007280" cy="88920"/>
          </a:xfrm>
        </p:grpSpPr>
        <p:pic>
          <p:nvPicPr>
            <p:cNvPr id="120" name="" descr=""/>
            <p:cNvPicPr/>
            <p:nvPr/>
          </p:nvPicPr>
          <p:blipFill>
            <a:blip r:embed="rId3"/>
            <a:stretch/>
          </p:blipFill>
          <p:spPr>
            <a:xfrm>
              <a:off x="0" y="38160"/>
              <a:ext cx="486396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" name="" descr=""/>
            <p:cNvPicPr/>
            <p:nvPr/>
          </p:nvPicPr>
          <p:blipFill>
            <a:blip r:embed="rId4"/>
            <a:stretch/>
          </p:blipFill>
          <p:spPr>
            <a:xfrm rot="10800000">
              <a:off x="5143320" y="37440"/>
              <a:ext cx="486396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" name="" descr=""/>
            <p:cNvPicPr/>
            <p:nvPr/>
          </p:nvPicPr>
          <p:blipFill>
            <a:blip r:embed="rId5"/>
            <a:stretch/>
          </p:blipFill>
          <p:spPr>
            <a:xfrm>
              <a:off x="4851360" y="0"/>
              <a:ext cx="304920" cy="88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3" name="PlaceHolder 2"/>
          <p:cNvSpPr>
            <a:spLocks noGrp="1"/>
          </p:cNvSpPr>
          <p:nvPr>
            <p:ph type="title"/>
          </p:nvPr>
        </p:nvSpPr>
        <p:spPr>
          <a:xfrm>
            <a:off x="1117440" y="837720"/>
            <a:ext cx="1076976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700" spc="-1" strike="noStrike">
                <a:solidFill>
                  <a:srgbClr val="000000"/>
                </a:solidFill>
                <a:latin typeface="Academy Engraved LET"/>
              </a:rPr>
              <a:t>Click to edit the title text format</a:t>
            </a: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17080" y="914040"/>
            <a:ext cx="5131080" cy="4089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700" spc="-1" strike="noStrike">
                <a:solidFill>
                  <a:srgbClr val="000000"/>
                </a:solidFill>
                <a:latin typeface="Academy Engraved LET"/>
              </a:rPr>
              <a:t>Click to edit the title text format</a:t>
            </a: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1117080" y="5041800"/>
            <a:ext cx="5131080" cy="3810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6000"/>
          </a:bodyPr>
          <a:p>
            <a:pPr indent="0"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3521"/>
                </a:solidFill>
                <a:latin typeface="Bodoni SvtyTwo SC ITC TT-Book"/>
              </a:rPr>
              <a:t>Click to edit the outline text format</a:t>
            </a:r>
            <a:endParaRPr b="0" lang="en-US" sz="3600" spc="-1" strike="noStrike">
              <a:solidFill>
                <a:srgbClr val="a53521"/>
              </a:solidFill>
              <a:latin typeface="Bodoni SvtyTwo SC ITC TT-Book"/>
            </a:endParaRPr>
          </a:p>
          <a:p>
            <a:pPr lvl="1" algn="ctr">
              <a:lnSpc>
                <a:spcPct val="90000"/>
              </a:lnSpc>
              <a:spcBef>
                <a:spcPts val="1199"/>
              </a:spcBef>
              <a:buClr>
                <a:srgbClr val="a53521"/>
              </a:buClr>
              <a:buFont typeface="Bodoni SvtyTwo SC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3521"/>
                </a:solidFill>
                <a:latin typeface="Bodoni SvtyTwo SC ITC TT-Book"/>
              </a:rPr>
              <a:t>Second Outline Level</a:t>
            </a:r>
            <a:endParaRPr b="0" lang="en-US" sz="3600" spc="-1" strike="noStrike">
              <a:solidFill>
                <a:srgbClr val="a53521"/>
              </a:solidFill>
              <a:latin typeface="Bodoni SvtyTwo SC ITC TT-Book"/>
            </a:endParaRPr>
          </a:p>
          <a:p>
            <a:pPr lvl="2" algn="ctr">
              <a:lnSpc>
                <a:spcPct val="90000"/>
              </a:lnSpc>
              <a:spcBef>
                <a:spcPts val="1199"/>
              </a:spcBef>
              <a:buClr>
                <a:srgbClr val="a53521"/>
              </a:buClr>
              <a:buFont typeface="Bodoni SvtyTwo SC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3521"/>
                </a:solidFill>
                <a:latin typeface="Bodoni SvtyTwo SC ITC TT-Book"/>
              </a:rPr>
              <a:t>Third Outline Level</a:t>
            </a:r>
            <a:endParaRPr b="0" lang="en-US" sz="3600" spc="-1" strike="noStrike">
              <a:solidFill>
                <a:srgbClr val="a53521"/>
              </a:solidFill>
              <a:latin typeface="Bodoni SvtyTwo SC ITC TT-Book"/>
            </a:endParaRPr>
          </a:p>
          <a:p>
            <a:pPr lvl="3" algn="ctr">
              <a:lnSpc>
                <a:spcPct val="90000"/>
              </a:lnSpc>
              <a:spcBef>
                <a:spcPts val="1199"/>
              </a:spcBef>
              <a:buClr>
                <a:srgbClr val="a53521"/>
              </a:buClr>
              <a:buFont typeface="Bodoni SvtyTwo SC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3521"/>
                </a:solidFill>
                <a:latin typeface="Bodoni SvtyTwo SC ITC TT-Book"/>
              </a:rPr>
              <a:t>Fourth Outline Level</a:t>
            </a:r>
            <a:endParaRPr b="0" lang="en-US" sz="3600" spc="-1" strike="noStrike">
              <a:solidFill>
                <a:srgbClr val="a53521"/>
              </a:solidFill>
              <a:latin typeface="Bodoni SvtyTwo SC ITC TT-Book"/>
            </a:endParaRPr>
          </a:p>
          <a:p>
            <a:pPr lvl="4" algn="ctr">
              <a:lnSpc>
                <a:spcPct val="90000"/>
              </a:lnSpc>
              <a:spcBef>
                <a:spcPts val="1199"/>
              </a:spcBef>
              <a:buClr>
                <a:srgbClr val="a53521"/>
              </a:buClr>
              <a:buFont typeface="Bodoni SvtyTwo SC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3521"/>
                </a:solidFill>
                <a:latin typeface="Bodoni SvtyTwo SC ITC TT-Book"/>
              </a:rPr>
              <a:t>Fifth Outline Level</a:t>
            </a:r>
            <a:endParaRPr b="0" lang="en-US" sz="3600" spc="-1" strike="noStrike">
              <a:solidFill>
                <a:srgbClr val="a53521"/>
              </a:solidFill>
              <a:latin typeface="Bodoni SvtyTwo SC ITC TT-Book"/>
            </a:endParaRPr>
          </a:p>
          <a:p>
            <a:pPr lvl="5" algn="ctr">
              <a:lnSpc>
                <a:spcPct val="90000"/>
              </a:lnSpc>
              <a:spcBef>
                <a:spcPts val="1199"/>
              </a:spcBef>
              <a:buClr>
                <a:srgbClr val="45433a"/>
              </a:buClr>
              <a:buFont typeface="Bodoni SvtyTwo SC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3521"/>
                </a:solidFill>
                <a:latin typeface="Bodoni SvtyTwo SC ITC TT-Book"/>
              </a:rPr>
              <a:t>Sixth Outline Level</a:t>
            </a:r>
            <a:endParaRPr b="0" lang="en-US" sz="3600" spc="-1" strike="noStrike">
              <a:solidFill>
                <a:srgbClr val="a53521"/>
              </a:solidFill>
              <a:latin typeface="Bodoni SvtyTwo SC ITC TT-Book"/>
            </a:endParaRPr>
          </a:p>
          <a:p>
            <a:pPr lvl="6" algn="ctr">
              <a:lnSpc>
                <a:spcPct val="90000"/>
              </a:lnSpc>
              <a:spcBef>
                <a:spcPts val="1199"/>
              </a:spcBef>
              <a:buClr>
                <a:srgbClr val="45433a"/>
              </a:buClr>
              <a:buFont typeface="Bodoni SvtyTwo SC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3521"/>
                </a:solidFill>
                <a:latin typeface="Bodoni SvtyTwo SC ITC TT-Book"/>
              </a:rPr>
              <a:t>Seventh Outline Level</a:t>
            </a:r>
            <a:endParaRPr b="0" lang="en-US" sz="3600" spc="-1" strike="noStrike">
              <a:solidFill>
                <a:srgbClr val="a53521"/>
              </a:solidFill>
              <a:latin typeface="Bodoni SvtyTwo SC ITC TT-Book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0" y="0"/>
            <a:ext cx="4368600" cy="88920"/>
            <a:chOff x="0" y="0"/>
            <a:chExt cx="4368600" cy="88920"/>
          </a:xfrm>
        </p:grpSpPr>
        <p:pic>
          <p:nvPicPr>
            <p:cNvPr id="163" name="" descr=""/>
            <p:cNvPicPr/>
            <p:nvPr/>
          </p:nvPicPr>
          <p:blipFill>
            <a:blip r:embed="rId3"/>
            <a:stretch/>
          </p:blipFill>
          <p:spPr>
            <a:xfrm>
              <a:off x="0" y="38160"/>
              <a:ext cx="203184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" name="" descr=""/>
            <p:cNvPicPr/>
            <p:nvPr/>
          </p:nvPicPr>
          <p:blipFill>
            <a:blip r:embed="rId4"/>
            <a:stretch/>
          </p:blipFill>
          <p:spPr>
            <a:xfrm rot="10800000">
              <a:off x="2336400" y="37440"/>
              <a:ext cx="203220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" name="" descr=""/>
            <p:cNvPicPr/>
            <p:nvPr/>
          </p:nvPicPr>
          <p:blipFill>
            <a:blip r:embed="rId5"/>
            <a:stretch/>
          </p:blipFill>
          <p:spPr>
            <a:xfrm>
              <a:off x="2031840" y="0"/>
              <a:ext cx="304920" cy="8892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50680" y="838080"/>
            <a:ext cx="1130292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700" spc="-1" strike="noStrike">
                <a:solidFill>
                  <a:srgbClr val="000000"/>
                </a:solidFill>
                <a:latin typeface="Academy Engraved LET"/>
              </a:rPr>
              <a:t>Click to edit the title text format</a:t>
            </a: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743880" y="2755440"/>
            <a:ext cx="541008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3000"/>
          </a:bodyPr>
          <a:p>
            <a:pPr marL="400680" indent="-400680">
              <a:lnSpc>
                <a:spcPct val="110000"/>
              </a:lnSpc>
              <a:spcBef>
                <a:spcPts val="3300"/>
              </a:spcBef>
              <a:buClr>
                <a:srgbClr val="45433a"/>
              </a:buClr>
              <a:buSzPct val="9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45433a"/>
                </a:solidFill>
                <a:latin typeface="Hoefler Text"/>
              </a:rPr>
              <a:t>Click to edit the outline text format</a:t>
            </a: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  <a:p>
            <a:pPr lvl="1" marL="727200" indent="-400320">
              <a:lnSpc>
                <a:spcPct val="110000"/>
              </a:lnSpc>
              <a:spcBef>
                <a:spcPts val="3300"/>
              </a:spcBef>
              <a:buClr>
                <a:srgbClr val="45433a"/>
              </a:buClr>
              <a:buSzPct val="9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45433a"/>
                </a:solidFill>
                <a:latin typeface="Hoefler Text"/>
              </a:rPr>
              <a:t>Second Outline Level</a:t>
            </a: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  <a:p>
            <a:pPr lvl="2" marL="1096200" indent="-400680">
              <a:lnSpc>
                <a:spcPct val="110000"/>
              </a:lnSpc>
              <a:spcBef>
                <a:spcPts val="3300"/>
              </a:spcBef>
              <a:buClr>
                <a:srgbClr val="45433a"/>
              </a:buClr>
              <a:buSzPct val="9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45433a"/>
                </a:solidFill>
                <a:latin typeface="Hoefler Text"/>
              </a:rPr>
              <a:t>Third Outline Level</a:t>
            </a: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  <a:p>
            <a:pPr lvl="3" marL="1465200" indent="-400680">
              <a:lnSpc>
                <a:spcPct val="110000"/>
              </a:lnSpc>
              <a:spcBef>
                <a:spcPts val="3300"/>
              </a:spcBef>
              <a:buClr>
                <a:srgbClr val="45433a"/>
              </a:buClr>
              <a:buSzPct val="9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45433a"/>
                </a:solidFill>
                <a:latin typeface="Hoefler Text"/>
              </a:rPr>
              <a:t>Fourth Outline Level</a:t>
            </a: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  <a:p>
            <a:pPr lvl="4" marL="1833840" indent="-400320">
              <a:lnSpc>
                <a:spcPct val="110000"/>
              </a:lnSpc>
              <a:spcBef>
                <a:spcPts val="3300"/>
              </a:spcBef>
              <a:buClr>
                <a:srgbClr val="45433a"/>
              </a:buClr>
              <a:buSzPct val="9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45433a"/>
                </a:solidFill>
                <a:latin typeface="Hoefler Text"/>
              </a:rPr>
              <a:t>Fifth Outline Level</a:t>
            </a: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  <a:p>
            <a:pPr lvl="5" marL="1833840" indent="-400320">
              <a:lnSpc>
                <a:spcPct val="110000"/>
              </a:lnSpc>
              <a:spcBef>
                <a:spcPts val="3300"/>
              </a:spcBef>
              <a:buClr>
                <a:srgbClr val="45433a"/>
              </a:buClr>
              <a:buSzPct val="9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45433a"/>
                </a:solidFill>
                <a:latin typeface="Hoefler Text"/>
              </a:rPr>
              <a:t>Sixth Outline Level</a:t>
            </a: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  <a:p>
            <a:pPr lvl="6" marL="1833840" indent="-400320">
              <a:lnSpc>
                <a:spcPct val="110000"/>
              </a:lnSpc>
              <a:spcBef>
                <a:spcPts val="3300"/>
              </a:spcBef>
              <a:buClr>
                <a:srgbClr val="45433a"/>
              </a:buClr>
              <a:buSzPct val="9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45433a"/>
                </a:solidFill>
                <a:latin typeface="Hoefler Text"/>
              </a:rPr>
              <a:t>Seventh Outline Level</a:t>
            </a: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204" name=""/>
          <p:cNvSpPr/>
          <p:nvPr/>
        </p:nvSpPr>
        <p:spPr>
          <a:xfrm>
            <a:off x="316080" y="2438280"/>
            <a:ext cx="12384000" cy="0"/>
          </a:xfrm>
          <a:prstGeom prst="line">
            <a:avLst/>
          </a:prstGeom>
          <a:ln w="12600">
            <a:solidFill>
              <a:srgbClr val="866c60">
                <a:alpha val="7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50680" y="838080"/>
            <a:ext cx="1130292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700" spc="-1" strike="noStrike">
                <a:solidFill>
                  <a:srgbClr val="000000"/>
                </a:solidFill>
                <a:latin typeface="Academy Engraved LET"/>
              </a:rPr>
              <a:t>Click to edit the title text format</a:t>
            </a: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850680" y="2755440"/>
            <a:ext cx="1130292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marL="468000" indent="-468000">
              <a:lnSpc>
                <a:spcPct val="110000"/>
              </a:lnSpc>
              <a:spcBef>
                <a:spcPts val="3300"/>
              </a:spcBef>
              <a:buClr>
                <a:srgbClr val="45433a"/>
              </a:buClr>
              <a:buSzPct val="9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45433a"/>
                </a:solidFill>
                <a:latin typeface="Hoefler Text"/>
              </a:rPr>
              <a:t>Click to edit the outline text format</a:t>
            </a: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  <a:p>
            <a:pPr lvl="1" marL="849600" indent="-467640">
              <a:lnSpc>
                <a:spcPct val="110000"/>
              </a:lnSpc>
              <a:spcBef>
                <a:spcPts val="3300"/>
              </a:spcBef>
              <a:buClr>
                <a:srgbClr val="45433a"/>
              </a:buClr>
              <a:buSzPct val="9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45433a"/>
                </a:solidFill>
                <a:latin typeface="Hoefler Text"/>
              </a:rPr>
              <a:t>Second Outline Level</a:t>
            </a: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  <a:p>
            <a:pPr lvl="2" marL="1280880" indent="-468000">
              <a:lnSpc>
                <a:spcPct val="110000"/>
              </a:lnSpc>
              <a:spcBef>
                <a:spcPts val="3300"/>
              </a:spcBef>
              <a:buClr>
                <a:srgbClr val="45433a"/>
              </a:buClr>
              <a:buSzPct val="9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45433a"/>
                </a:solidFill>
                <a:latin typeface="Hoefler Text"/>
              </a:rPr>
              <a:t>Third Outline Level</a:t>
            </a: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  <a:p>
            <a:pPr lvl="3" marL="1712160" indent="-468000">
              <a:lnSpc>
                <a:spcPct val="110000"/>
              </a:lnSpc>
              <a:spcBef>
                <a:spcPts val="3300"/>
              </a:spcBef>
              <a:buClr>
                <a:srgbClr val="45433a"/>
              </a:buClr>
              <a:buSzPct val="9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45433a"/>
                </a:solidFill>
                <a:latin typeface="Hoefler Text"/>
              </a:rPr>
              <a:t>Fourth Outline Level</a:t>
            </a: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  <a:p>
            <a:pPr lvl="4" marL="2143080" indent="-467640">
              <a:lnSpc>
                <a:spcPct val="110000"/>
              </a:lnSpc>
              <a:spcBef>
                <a:spcPts val="3300"/>
              </a:spcBef>
              <a:buClr>
                <a:srgbClr val="45433a"/>
              </a:buClr>
              <a:buSzPct val="9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45433a"/>
                </a:solidFill>
                <a:latin typeface="Hoefler Text"/>
              </a:rPr>
              <a:t>Fifth Outline Level</a:t>
            </a: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  <a:p>
            <a:pPr lvl="5" marL="2143080" indent="-467640">
              <a:lnSpc>
                <a:spcPct val="110000"/>
              </a:lnSpc>
              <a:spcBef>
                <a:spcPts val="3300"/>
              </a:spcBef>
              <a:buClr>
                <a:srgbClr val="45433a"/>
              </a:buClr>
              <a:buSzPct val="9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45433a"/>
                </a:solidFill>
                <a:latin typeface="Hoefler Text"/>
              </a:rPr>
              <a:t>Sixth Outline Level</a:t>
            </a: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  <a:p>
            <a:pPr lvl="6" marL="2143080" indent="-467640">
              <a:lnSpc>
                <a:spcPct val="110000"/>
              </a:lnSpc>
              <a:spcBef>
                <a:spcPts val="3300"/>
              </a:spcBef>
              <a:buClr>
                <a:srgbClr val="45433a"/>
              </a:buClr>
              <a:buSzPct val="9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45433a"/>
                </a:solidFill>
                <a:latin typeface="Hoefler Text"/>
              </a:rPr>
              <a:t>Seventh Outline Level</a:t>
            </a: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243" name=""/>
          <p:cNvSpPr/>
          <p:nvPr/>
        </p:nvSpPr>
        <p:spPr>
          <a:xfrm>
            <a:off x="316080" y="2438280"/>
            <a:ext cx="12384000" cy="0"/>
          </a:xfrm>
          <a:prstGeom prst="line">
            <a:avLst/>
          </a:prstGeom>
          <a:ln w="12600">
            <a:solidFill>
              <a:srgbClr val="866c60">
                <a:alpha val="7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50680" y="838080"/>
            <a:ext cx="1130292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700" spc="-1" strike="noStrike">
                <a:solidFill>
                  <a:srgbClr val="000000"/>
                </a:solidFill>
                <a:latin typeface="Academy Engraved LET"/>
              </a:rPr>
              <a:t>Click to edit the title text format</a:t>
            </a: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851040" y="2755440"/>
            <a:ext cx="541008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3000"/>
          </a:bodyPr>
          <a:p>
            <a:pPr marL="400680" indent="-400680">
              <a:lnSpc>
                <a:spcPct val="110000"/>
              </a:lnSpc>
              <a:spcBef>
                <a:spcPts val="3300"/>
              </a:spcBef>
              <a:buClr>
                <a:srgbClr val="45433a"/>
              </a:buClr>
              <a:buSzPct val="9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45433a"/>
                </a:solidFill>
                <a:latin typeface="Hoefler Text"/>
              </a:rPr>
              <a:t>Click to edit the outline text format</a:t>
            </a: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  <a:p>
            <a:pPr lvl="1" marL="727200" indent="-400320">
              <a:lnSpc>
                <a:spcPct val="110000"/>
              </a:lnSpc>
              <a:spcBef>
                <a:spcPts val="3300"/>
              </a:spcBef>
              <a:buClr>
                <a:srgbClr val="45433a"/>
              </a:buClr>
              <a:buSzPct val="9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45433a"/>
                </a:solidFill>
                <a:latin typeface="Hoefler Text"/>
              </a:rPr>
              <a:t>Second Outline Level</a:t>
            </a: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  <a:p>
            <a:pPr lvl="2" marL="1096200" indent="-400680">
              <a:lnSpc>
                <a:spcPct val="110000"/>
              </a:lnSpc>
              <a:spcBef>
                <a:spcPts val="3300"/>
              </a:spcBef>
              <a:buClr>
                <a:srgbClr val="45433a"/>
              </a:buClr>
              <a:buSzPct val="9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45433a"/>
                </a:solidFill>
                <a:latin typeface="Hoefler Text"/>
              </a:rPr>
              <a:t>Third Outline Level</a:t>
            </a: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  <a:p>
            <a:pPr lvl="3" marL="1465200" indent="-400680">
              <a:lnSpc>
                <a:spcPct val="110000"/>
              </a:lnSpc>
              <a:spcBef>
                <a:spcPts val="3300"/>
              </a:spcBef>
              <a:buClr>
                <a:srgbClr val="45433a"/>
              </a:buClr>
              <a:buSzPct val="9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45433a"/>
                </a:solidFill>
                <a:latin typeface="Hoefler Text"/>
              </a:rPr>
              <a:t>Fourth Outline Level</a:t>
            </a: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  <a:p>
            <a:pPr lvl="4" marL="1833840" indent="-400320">
              <a:lnSpc>
                <a:spcPct val="110000"/>
              </a:lnSpc>
              <a:spcBef>
                <a:spcPts val="3300"/>
              </a:spcBef>
              <a:buClr>
                <a:srgbClr val="45433a"/>
              </a:buClr>
              <a:buSzPct val="9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45433a"/>
                </a:solidFill>
                <a:latin typeface="Hoefler Text"/>
              </a:rPr>
              <a:t>Fifth Outline Level</a:t>
            </a: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  <a:p>
            <a:pPr lvl="5" marL="1833840" indent="-400320">
              <a:lnSpc>
                <a:spcPct val="110000"/>
              </a:lnSpc>
              <a:spcBef>
                <a:spcPts val="3300"/>
              </a:spcBef>
              <a:buClr>
                <a:srgbClr val="45433a"/>
              </a:buClr>
              <a:buSzPct val="9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45433a"/>
                </a:solidFill>
                <a:latin typeface="Hoefler Text"/>
              </a:rPr>
              <a:t>Sixth Outline Level</a:t>
            </a: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  <a:p>
            <a:pPr lvl="6" marL="1833840" indent="-400320">
              <a:lnSpc>
                <a:spcPct val="110000"/>
              </a:lnSpc>
              <a:spcBef>
                <a:spcPts val="3300"/>
              </a:spcBef>
              <a:buClr>
                <a:srgbClr val="45433a"/>
              </a:buClr>
              <a:buSzPct val="9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45433a"/>
                </a:solidFill>
                <a:latin typeface="Hoefler Text"/>
              </a:rPr>
              <a:t>Seventh Outline Level</a:t>
            </a: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282" name=""/>
          <p:cNvSpPr/>
          <p:nvPr/>
        </p:nvSpPr>
        <p:spPr>
          <a:xfrm>
            <a:off x="316080" y="2438280"/>
            <a:ext cx="12384000" cy="0"/>
          </a:xfrm>
          <a:prstGeom prst="line">
            <a:avLst/>
          </a:prstGeom>
          <a:ln w="12600">
            <a:solidFill>
              <a:srgbClr val="866c60">
                <a:alpha val="7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850680" y="838080"/>
            <a:ext cx="1130292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700" spc="-1" strike="noStrike">
                <a:solidFill>
                  <a:srgbClr val="000000"/>
                </a:solidFill>
                <a:latin typeface="Academy Engraved LET"/>
              </a:rPr>
              <a:t>Click to edit the title text format</a:t>
            </a: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851040" y="2755440"/>
            <a:ext cx="541008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3000"/>
          </a:bodyPr>
          <a:p>
            <a:pPr marL="400680" indent="-400680">
              <a:lnSpc>
                <a:spcPct val="110000"/>
              </a:lnSpc>
              <a:spcBef>
                <a:spcPts val="3300"/>
              </a:spcBef>
              <a:buClr>
                <a:srgbClr val="45433a"/>
              </a:buClr>
              <a:buSzPct val="9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45433a"/>
                </a:solidFill>
                <a:latin typeface="Hoefler Text"/>
              </a:rPr>
              <a:t>Click to edit the outline text format</a:t>
            </a: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  <a:p>
            <a:pPr lvl="1" marL="727200" indent="-400320">
              <a:lnSpc>
                <a:spcPct val="110000"/>
              </a:lnSpc>
              <a:spcBef>
                <a:spcPts val="3300"/>
              </a:spcBef>
              <a:buClr>
                <a:srgbClr val="45433a"/>
              </a:buClr>
              <a:buSzPct val="9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45433a"/>
                </a:solidFill>
                <a:latin typeface="Hoefler Text"/>
              </a:rPr>
              <a:t>Second Outline Level</a:t>
            </a: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  <a:p>
            <a:pPr lvl="2" marL="1096200" indent="-400680">
              <a:lnSpc>
                <a:spcPct val="110000"/>
              </a:lnSpc>
              <a:spcBef>
                <a:spcPts val="3300"/>
              </a:spcBef>
              <a:buClr>
                <a:srgbClr val="45433a"/>
              </a:buClr>
              <a:buSzPct val="9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45433a"/>
                </a:solidFill>
                <a:latin typeface="Hoefler Text"/>
              </a:rPr>
              <a:t>Third Outline Level</a:t>
            </a: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  <a:p>
            <a:pPr lvl="3" marL="1465200" indent="-400680">
              <a:lnSpc>
                <a:spcPct val="110000"/>
              </a:lnSpc>
              <a:spcBef>
                <a:spcPts val="3300"/>
              </a:spcBef>
              <a:buClr>
                <a:srgbClr val="45433a"/>
              </a:buClr>
              <a:buSzPct val="9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45433a"/>
                </a:solidFill>
                <a:latin typeface="Hoefler Text"/>
              </a:rPr>
              <a:t>Fourth Outline Level</a:t>
            </a: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  <a:p>
            <a:pPr lvl="4" marL="1833840" indent="-400320">
              <a:lnSpc>
                <a:spcPct val="110000"/>
              </a:lnSpc>
              <a:spcBef>
                <a:spcPts val="3300"/>
              </a:spcBef>
              <a:buClr>
                <a:srgbClr val="45433a"/>
              </a:buClr>
              <a:buSzPct val="9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45433a"/>
                </a:solidFill>
                <a:latin typeface="Hoefler Text"/>
              </a:rPr>
              <a:t>Fifth Outline Level</a:t>
            </a: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  <a:p>
            <a:pPr lvl="5" marL="1833840" indent="-400320">
              <a:lnSpc>
                <a:spcPct val="110000"/>
              </a:lnSpc>
              <a:spcBef>
                <a:spcPts val="3300"/>
              </a:spcBef>
              <a:buClr>
                <a:srgbClr val="45433a"/>
              </a:buClr>
              <a:buSzPct val="9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45433a"/>
                </a:solidFill>
                <a:latin typeface="Hoefler Text"/>
              </a:rPr>
              <a:t>Sixth Outline Level</a:t>
            </a: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  <a:p>
            <a:pPr lvl="6" marL="1833840" indent="-400320">
              <a:lnSpc>
                <a:spcPct val="110000"/>
              </a:lnSpc>
              <a:spcBef>
                <a:spcPts val="3300"/>
              </a:spcBef>
              <a:buClr>
                <a:srgbClr val="45433a"/>
              </a:buClr>
              <a:buSzPct val="9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45433a"/>
                </a:solidFill>
                <a:latin typeface="Hoefler Text"/>
              </a:rPr>
              <a:t>Seventh Outline Level</a:t>
            </a: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321" name=""/>
          <p:cNvSpPr/>
          <p:nvPr/>
        </p:nvSpPr>
        <p:spPr>
          <a:xfrm>
            <a:off x="316080" y="2438280"/>
            <a:ext cx="12384000" cy="0"/>
          </a:xfrm>
          <a:prstGeom prst="line">
            <a:avLst/>
          </a:prstGeom>
          <a:ln w="12600">
            <a:solidFill>
              <a:srgbClr val="866c60">
                <a:alpha val="7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hyperlink" Target="http://www.veridiancu.org/accounts/cds.asp" TargetMode="External"/><Relationship Id="rId4" Type="http://schemas.openxmlformats.org/officeDocument/2006/relationships/image" Target="../media/image5.png"/><Relationship Id="rId5" Type="http://schemas.openxmlformats.org/officeDocument/2006/relationships/hyperlink" Target="https://www.wellsfargo.com/savings_cds/cds/" TargetMode="External"/><Relationship Id="rId6" Type="http://schemas.openxmlformats.org/officeDocument/2006/relationships/hyperlink" Target="https://www.wellsfargo.com/savings_cds/cds/" TargetMode="External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hyperlink" Target="http://www.irs.gov/retirement/sponsor/article/0,,id=155347,00.html" TargetMode="External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1117440" y="2463480"/>
            <a:ext cx="10769760" cy="25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700" spc="-1" strike="noStrike">
                <a:solidFill>
                  <a:srgbClr val="000000"/>
                </a:solidFill>
                <a:latin typeface="Academy Engraved LET"/>
              </a:rPr>
              <a:t>Savings and Investments</a:t>
            </a: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1117440" y="5041800"/>
            <a:ext cx="1076976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3521"/>
                </a:solidFill>
                <a:latin typeface="Bodoni SvtyTwo SC ITC TT-Book"/>
              </a:rPr>
              <a:t>Understanding Ways to Save and Grow Your Money</a:t>
            </a:r>
            <a:endParaRPr b="0" lang="en-US" sz="3600" spc="-1" strike="noStrike">
              <a:solidFill>
                <a:srgbClr val="a53521"/>
              </a:solidFill>
              <a:latin typeface="Bodoni SvtyTwo SC ITC TT-Boo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850680" y="838080"/>
            <a:ext cx="1130292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cademy Engraved LET"/>
              </a:rPr>
              <a:t>Understanding Savings</a:t>
            </a:r>
            <a:endParaRPr b="0" lang="en-US" sz="60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850680" y="2755440"/>
            <a:ext cx="11302920" cy="5613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482760" indent="-482760">
              <a:lnSpc>
                <a:spcPct val="110000"/>
              </a:lnSpc>
              <a:spcBef>
                <a:spcPts val="33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5433a"/>
                </a:solidFill>
                <a:latin typeface="Hoefler Text"/>
              </a:rPr>
              <a:t>What is Savings?</a:t>
            </a:r>
            <a:endParaRPr b="0" lang="en-US" sz="4800" spc="-1" strike="noStrike">
              <a:solidFill>
                <a:srgbClr val="45433a"/>
              </a:solidFill>
              <a:latin typeface="Hoefler Text"/>
            </a:endParaRPr>
          </a:p>
          <a:p>
            <a:pPr marL="482760" indent="-482760">
              <a:lnSpc>
                <a:spcPct val="110000"/>
              </a:lnSpc>
              <a:spcBef>
                <a:spcPts val="33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5433a"/>
                </a:solidFill>
                <a:latin typeface="Hoefler Text"/>
              </a:rPr>
              <a:t>Why is a Savings Plan an important part of managing your money?</a:t>
            </a:r>
            <a:endParaRPr b="0" lang="en-US" sz="4800" spc="-1" strike="noStrike">
              <a:solidFill>
                <a:srgbClr val="45433a"/>
              </a:solidFill>
              <a:latin typeface="Hoefler Text"/>
            </a:endParaRPr>
          </a:p>
          <a:p>
            <a:pPr marL="482760" indent="-482760">
              <a:lnSpc>
                <a:spcPct val="110000"/>
              </a:lnSpc>
              <a:spcBef>
                <a:spcPts val="33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5433a"/>
                </a:solidFill>
                <a:latin typeface="Hoefler Text"/>
              </a:rPr>
              <a:t>What is the difference between Savings and Investing?</a:t>
            </a:r>
            <a:endParaRPr b="0" lang="en-US" sz="48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850680" y="838080"/>
            <a:ext cx="1130292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cademy Engraved LET"/>
              </a:rPr>
              <a:t>Growing your savings</a:t>
            </a:r>
            <a:endParaRPr b="0" lang="en-US" sz="60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850680" y="2755800"/>
            <a:ext cx="11302920" cy="353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482760" indent="-482760">
              <a:lnSpc>
                <a:spcPct val="110000"/>
              </a:lnSpc>
              <a:spcBef>
                <a:spcPts val="33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45433a"/>
                </a:solidFill>
                <a:latin typeface="Hoefler Text"/>
              </a:rPr>
              <a:t>Interest</a:t>
            </a:r>
            <a:endParaRPr b="0" lang="en-US" sz="6400" spc="-1" strike="noStrike">
              <a:solidFill>
                <a:srgbClr val="45433a"/>
              </a:solidFill>
              <a:latin typeface="Hoefler Text"/>
            </a:endParaRPr>
          </a:p>
          <a:p>
            <a:pPr lvl="3" marL="1739880" indent="-482400">
              <a:lnSpc>
                <a:spcPct val="110000"/>
              </a:lnSpc>
              <a:spcBef>
                <a:spcPts val="3300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45433a"/>
                </a:solidFill>
                <a:latin typeface="Hoefler Text"/>
              </a:rPr>
              <a:t>Simple</a:t>
            </a: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  <a:p>
            <a:pPr lvl="3" marL="1739880" indent="-482400">
              <a:lnSpc>
                <a:spcPct val="110000"/>
              </a:lnSpc>
              <a:spcBef>
                <a:spcPts val="3300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45433a"/>
                </a:solidFill>
                <a:latin typeface="Hoefler Text"/>
              </a:rPr>
              <a:t>Compound</a:t>
            </a: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  <a:p>
            <a:pPr marL="482760"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pic>
        <p:nvPicPr>
          <p:cNvPr id="547" name="" descr=""/>
          <p:cNvPicPr/>
          <p:nvPr/>
        </p:nvPicPr>
        <p:blipFill>
          <a:blip r:embed="rId5"/>
          <a:stretch/>
        </p:blipFill>
        <p:spPr>
          <a:xfrm>
            <a:off x="1054080" y="6286680"/>
            <a:ext cx="10883880" cy="245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850680" y="838080"/>
            <a:ext cx="1130292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700" spc="-1" strike="noStrike">
                <a:solidFill>
                  <a:srgbClr val="000000"/>
                </a:solidFill>
                <a:latin typeface="Academy Engraved LET"/>
              </a:rPr>
              <a:t>dECIDING TO iNVEST</a:t>
            </a: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850680" y="2755440"/>
            <a:ext cx="1130292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482760" indent="-482760">
              <a:lnSpc>
                <a:spcPct val="110000"/>
              </a:lnSpc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5433a"/>
                </a:solidFill>
                <a:latin typeface="Hoefler Text"/>
              </a:rPr>
              <a:t>Safety</a:t>
            </a:r>
            <a:endParaRPr b="0" lang="en-US" sz="4800" spc="-1" strike="noStrike">
              <a:solidFill>
                <a:srgbClr val="45433a"/>
              </a:solidFill>
              <a:latin typeface="Hoefler Text"/>
            </a:endParaRPr>
          </a:p>
          <a:p>
            <a:pPr lvl="3" marL="1816200" indent="-482760">
              <a:lnSpc>
                <a:spcPct val="110000"/>
              </a:lnSpc>
              <a:spcBef>
                <a:spcPts val="1100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5433a"/>
                </a:solidFill>
                <a:latin typeface="Hoefler Text"/>
              </a:rPr>
              <a:t>The assurance that the money you invest can and will be returned to you</a:t>
            </a:r>
            <a:endParaRPr b="0" lang="en-US" sz="2400" spc="-1" strike="noStrike">
              <a:solidFill>
                <a:srgbClr val="45433a"/>
              </a:solidFill>
              <a:latin typeface="Hoefler Text"/>
            </a:endParaRPr>
          </a:p>
          <a:p>
            <a:pPr marL="482760" indent="-482760">
              <a:lnSpc>
                <a:spcPct val="110000"/>
              </a:lnSpc>
              <a:spcBef>
                <a:spcPts val="11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5433a"/>
                </a:solidFill>
                <a:latin typeface="Hoefler Text"/>
              </a:rPr>
              <a:t>Yield</a:t>
            </a:r>
            <a:endParaRPr b="0" lang="en-US" sz="4800" spc="-1" strike="noStrike">
              <a:solidFill>
                <a:srgbClr val="45433a"/>
              </a:solidFill>
              <a:latin typeface="Hoefler Text"/>
            </a:endParaRPr>
          </a:p>
          <a:p>
            <a:pPr lvl="3" marL="1816200" indent="-482760">
              <a:lnSpc>
                <a:spcPct val="110000"/>
              </a:lnSpc>
              <a:spcBef>
                <a:spcPts val="1100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5433a"/>
                </a:solidFill>
                <a:latin typeface="Hoefler Text"/>
              </a:rPr>
              <a:t>Rate of return, or the percentage of interest that will be added to your savings over a period of time. Typically, the higher the yield the greater the risk.</a:t>
            </a:r>
            <a:endParaRPr b="0" lang="en-US" sz="2400" spc="-1" strike="noStrike">
              <a:solidFill>
                <a:srgbClr val="45433a"/>
              </a:solidFill>
              <a:latin typeface="Hoefler Text"/>
            </a:endParaRPr>
          </a:p>
          <a:p>
            <a:pPr marL="482760" indent="-482760">
              <a:lnSpc>
                <a:spcPct val="110000"/>
              </a:lnSpc>
              <a:spcBef>
                <a:spcPts val="11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5433a"/>
                </a:solidFill>
                <a:latin typeface="Hoefler Text"/>
              </a:rPr>
              <a:t>Liquidity</a:t>
            </a:r>
            <a:endParaRPr b="0" lang="en-US" sz="4800" spc="-1" strike="noStrike">
              <a:solidFill>
                <a:srgbClr val="45433a"/>
              </a:solidFill>
              <a:latin typeface="Hoefler Text"/>
            </a:endParaRPr>
          </a:p>
          <a:p>
            <a:pPr lvl="3" marL="1816200" indent="-482760">
              <a:lnSpc>
                <a:spcPct val="110000"/>
              </a:lnSpc>
              <a:spcBef>
                <a:spcPts val="1100"/>
              </a:spcBef>
              <a:buSzPct val="100000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5433a"/>
                </a:solidFill>
                <a:latin typeface="Hoefler Text"/>
              </a:rPr>
              <a:t>The ability in which an investment can be changed into cash without losing value.</a:t>
            </a:r>
            <a:endParaRPr b="0" lang="en-US" sz="24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850680" y="838080"/>
            <a:ext cx="1130292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cademy Engraved LET"/>
              </a:rPr>
              <a:t>Ways to Save and Invest</a:t>
            </a:r>
            <a:endParaRPr b="0" lang="en-US" sz="48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850680" y="2755440"/>
            <a:ext cx="1130292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482760" indent="-482760">
              <a:lnSpc>
                <a:spcPct val="110000"/>
              </a:lnSpc>
              <a:spcBef>
                <a:spcPts val="33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 u="sng">
                <a:solidFill>
                  <a:srgbClr val="009999"/>
                </a:solidFill>
                <a:uFillTx/>
                <a:latin typeface="Hoefler Text"/>
                <a:hlinkClick r:id="rId3"/>
              </a:rPr>
              <a:t>Savings Accounts</a:t>
            </a:r>
            <a:r>
              <a:rPr b="0" lang="en-US" sz="3300" spc="-1" strike="noStrike">
                <a:solidFill>
                  <a:srgbClr val="45433a"/>
                </a:solidFill>
                <a:latin typeface="Hoefler Text"/>
              </a:rPr>
              <a:t> - Regular &amp; Money Market</a:t>
            </a: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  <a:p>
            <a:pPr marL="482760" indent="-482760">
              <a:lnSpc>
                <a:spcPct val="110000"/>
              </a:lnSpc>
              <a:spcBef>
                <a:spcPts val="33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 u="sng">
                <a:solidFill>
                  <a:srgbClr val="009999"/>
                </a:solidFill>
                <a:uFillTx/>
                <a:latin typeface="Hoefler Text"/>
                <a:hlinkClick r:id="rId5"/>
              </a:rPr>
              <a:t>CD’s</a:t>
            </a:r>
            <a:r>
              <a:rPr b="0" lang="en-US" sz="3300" spc="-1" strike="noStrike" u="sng">
                <a:solidFill>
                  <a:srgbClr val="009999"/>
                </a:solidFill>
                <a:uFillTx/>
                <a:latin typeface="Hoefler Text"/>
                <a:hlinkClick r:id="rId6"/>
              </a:rPr>
              <a:t> - Certificate of Deposit</a:t>
            </a: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  <a:p>
            <a:pPr marL="482760" indent="-482760">
              <a:lnSpc>
                <a:spcPct val="110000"/>
              </a:lnSpc>
              <a:spcBef>
                <a:spcPts val="33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 u="sng">
                <a:solidFill>
                  <a:srgbClr val="45433a"/>
                </a:solidFill>
                <a:uFillTx/>
                <a:latin typeface="Hoefler Text"/>
              </a:rPr>
              <a:t>Retirement Plans</a:t>
            </a:r>
            <a:r>
              <a:rPr b="0" lang="en-US" sz="3300" spc="-1" strike="noStrike">
                <a:solidFill>
                  <a:srgbClr val="45433a"/>
                </a:solidFill>
                <a:latin typeface="Hoefler Text"/>
              </a:rPr>
              <a:t> </a:t>
            </a: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  <a:p>
            <a:pPr lvl="3" marL="1816200" indent="-482760">
              <a:lnSpc>
                <a:spcPct val="110000"/>
              </a:lnSpc>
              <a:spcBef>
                <a:spcPts val="3300"/>
              </a:spcBef>
              <a:buSzPct val="100000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 u="sng">
                <a:solidFill>
                  <a:srgbClr val="009999"/>
                </a:solidFill>
                <a:uFillTx/>
                <a:latin typeface="Hoefler Text"/>
                <a:hlinkClick r:id="rId9"/>
              </a:rPr>
              <a:t>401(k), 403(b), Individual Retirement Accounts,</a:t>
            </a:r>
            <a:r>
              <a:rPr b="0" lang="en-US" sz="3300" spc="-1" strike="noStrike">
                <a:solidFill>
                  <a:srgbClr val="45433a"/>
                </a:solidFill>
                <a:latin typeface="Hoefler Text"/>
              </a:rPr>
              <a:t> Pensions </a:t>
            </a:r>
            <a:r>
              <a:rPr b="0" lang="en-US" sz="3300" spc="-1" strike="noStrike" u="sng">
                <a:solidFill>
                  <a:srgbClr val="45433a"/>
                </a:solidFill>
                <a:uFillTx/>
                <a:latin typeface="Hoefler Text"/>
              </a:rPr>
              <a:t>(IPERS)</a:t>
            </a: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  <a:p>
            <a:pPr marL="482760" indent="-482760">
              <a:lnSpc>
                <a:spcPct val="110000"/>
              </a:lnSpc>
              <a:spcBef>
                <a:spcPts val="3300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 u="sng">
                <a:solidFill>
                  <a:srgbClr val="45433a"/>
                </a:solidFill>
                <a:uFillTx/>
                <a:latin typeface="Hoefler Text"/>
              </a:rPr>
              <a:t>Investments</a:t>
            </a: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  <a:p>
            <a:pPr lvl="3" marL="1816200" indent="-482760">
              <a:lnSpc>
                <a:spcPct val="110000"/>
              </a:lnSpc>
              <a:spcBef>
                <a:spcPts val="3300"/>
              </a:spcBef>
              <a:buSzPct val="100000"/>
              <a:buBlip>
                <a:blip r:embed="rId1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45433a"/>
                </a:solidFill>
                <a:latin typeface="Hoefler Text"/>
              </a:rPr>
              <a:t>Stocks, Bonds, and Mutual Funds </a:t>
            </a: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850680" y="838080"/>
            <a:ext cx="1130292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cademy Engraved LET"/>
              </a:rPr>
              <a:t>Discover Savings Accounts</a:t>
            </a:r>
            <a:endParaRPr b="0" lang="en-US" sz="50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850680" y="2437920"/>
            <a:ext cx="1130292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 algn="ctr">
              <a:lnSpc>
                <a:spcPct val="110000"/>
              </a:lnSpc>
              <a:spcBef>
                <a:spcPts val="3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45433a"/>
                </a:solidFill>
                <a:latin typeface="Hoefler Text"/>
              </a:rPr>
              <a:t>Regular Savings </a:t>
            </a:r>
            <a:endParaRPr b="0" lang="en-US" sz="6400" spc="-1" strike="noStrike">
              <a:solidFill>
                <a:srgbClr val="45433a"/>
              </a:solidFill>
              <a:latin typeface="Hoefler Text"/>
            </a:endParaRPr>
          </a:p>
          <a:p>
            <a:pPr indent="0" algn="ctr">
              <a:lnSpc>
                <a:spcPct val="110000"/>
              </a:lnSpc>
              <a:spcBef>
                <a:spcPts val="3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45433a"/>
                </a:solidFill>
                <a:latin typeface="Hoefler Text"/>
              </a:rPr>
              <a:t>vs </a:t>
            </a:r>
            <a:endParaRPr b="0" lang="en-US" sz="6400" spc="-1" strike="noStrike">
              <a:solidFill>
                <a:srgbClr val="45433a"/>
              </a:solidFill>
              <a:latin typeface="Hoefler Text"/>
            </a:endParaRPr>
          </a:p>
          <a:p>
            <a:pPr indent="0" algn="ctr">
              <a:lnSpc>
                <a:spcPct val="110000"/>
              </a:lnSpc>
              <a:spcBef>
                <a:spcPts val="3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45433a"/>
                </a:solidFill>
                <a:latin typeface="Hoefler Text"/>
              </a:rPr>
              <a:t>Money Market Savings</a:t>
            </a:r>
            <a:endParaRPr b="0" lang="en-US" sz="64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